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8534-9FE5-4720-B342-EFE5658E0F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490-F011-46B5-BD6C-4698ACF525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748C-88DB-47F6-B01D-2E0B07FBAD6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72AF-B62C-40FB-9F66-92A8150204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BD3-DD06-4956-8805-01A3CBAA25B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EAEA-8B21-4516-A25F-970D0EEB70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C8C8-91BF-4A49-943C-88A0367D1C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7884-7FE3-45F8-BAC7-C0C8DA9A13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AA8-B3F9-4A5F-ABDE-E5D2F1A67D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09D-6E7E-4513-9493-0EAEA46AB96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2350-C54C-4387-954A-E9A10116C2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290-747C-40AC-BB9C-4C3CB1A26A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E72F-43BD-4CDC-9B76-D7E388FC45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121-76DB-45D3-A112-A59663691E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AC9A-A1D1-48E4-94EC-6DDC5627E6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AC36-0377-4F0D-8C65-35CDB46119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340F-8496-440D-AA0F-49460911B3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7440-6D9D-4652-BC12-E783A9C2A8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EA67-0E5D-421E-B1EC-E563283516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A551-C7FF-4C77-B547-FCA812878D8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DE12-10F3-4C17-A2AB-EFDC8445D4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6A81-A633-4080-8DEC-0C60C29003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75D-1E47-45AC-8AFD-7DD30637CE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64F-E1DB-4A30-9CFA-79F2EDA4C7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3BA9-0DA5-4194-B7FB-9092BF4947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62CC-197E-4073-9183-2ADBE2B0163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243-A668-42A2-844C-2C613C5E35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21E3-E782-493C-98BA-FEA1A67083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E6C6-8921-4EA7-9ACD-1A3934E0AD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400A-E1B4-44CE-AFCA-9C9CFCF11D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5C75-6058-45C3-BB8B-03CD983EAE4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0EC-4846-431E-9B44-2185267D05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DA7E-C934-413E-82E8-F074983053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CDA-4141-4E2B-A5F4-5332ABA1C9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E1C3-92F8-4402-8610-6D3C3ABA7C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FDCB-E551-451D-B5A8-183CC55EFE9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BD0-A2D5-437C-8D61-8CA0D8C905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C962-07A7-411D-905F-DD28C0F38B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AA98-5015-4073-9416-15D9D1BBB9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26E-F5F0-45BA-834F-9A73B6F1BA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AB1C-32A2-4D97-95F4-31E54275A1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40E1-222B-41A3-AC89-5FBE59CE64E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7DD4-3CE9-4C8D-AD80-152063A402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1ADE-C76D-4524-9A4B-CD6B5B488D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F30-B924-48BB-BA67-10ECC9032B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20AF-FF73-430D-9799-1C01968131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13E-0559-4D98-B4CD-2884C6D1A7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0D19-F99D-4918-B2CC-3585FACE79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CDB3-8671-4CAE-8BBE-8E9D07E1D0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AED-58C1-46C9-A40F-B7A762C980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94A1-3653-4AFA-9159-BA0E9B02FA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909-EA49-4E21-9C67-0C29DF02FF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8BA2-9207-4046-AF62-780067ADD1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153-14D9-4B05-93A6-F04E3BFFE5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DF2-FF2E-471F-936C-915AC684B3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DE5-67E4-4AB6-B3B4-AF3C472DD2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153-E1F8-45FD-83E6-FCCD33723E3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7437-6C1A-48D5-8375-06A5762097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899-2E52-485B-8A91-81BFDFB662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31A2-1B67-4F7F-A397-F26569261B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8BB-1D53-46FE-83F6-F842B39506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686C-A517-4A9C-8F2E-C798CC7454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388-0E51-4229-869F-BCB5F2CA92D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9D4B-BAA8-4E61-80FA-CF64C291ED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113-BE40-453C-B7A4-C804EB5F1A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0480-0857-42E4-A723-BD493B7718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E426-4C51-4F22-B90A-7255DAC06B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E6A1-7560-4026-97D8-99EC0AF2A1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E264-BD46-40E5-91BC-8C34ECEE81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8A2-D33B-4C8E-9136-648C39B6C1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695-C4AA-47FC-8A6F-20D3AB7EA9A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059-FAC2-4A89-9C31-94DAD4912C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280-AECF-48FC-A1F4-09688655C0E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42B-5AFA-4D30-80E0-96E2D432A1D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E4BC-911F-4ED4-8B67-B1E62A6DD0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626-A9E2-4571-A7A4-494F8EC331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AD1C-3C23-4A7A-BA2F-6FA6F7AC4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558E-C43E-48E5-BF66-6241765B26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AC91E-9969-4B46-9183-E32985BAF62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CAE56-46C9-4C50-80D0-2912601273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BE2CB-6215-4240-8346-3E51DEF5C83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09352-7589-41A7-A9EC-E950A711FB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5E3DC-79BB-459F-B964-8D9FF12396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80911-FBE5-4AA9-B3A3-02F9E0C884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54829-33FA-4C86-B07F-5191BCE345E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D04B0-D93C-410F-B3E1-4B8029BB2B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3053E-5BDB-405C-8858-1295362238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351B8-2204-45CF-8868-277651560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367F-96EA-45F2-A1F0-5E059039FE3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99E0C-96EA-40AF-8F4D-8F8FFA57BD4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2E399-9C00-409D-A734-003558B362E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E0769-519E-4E07-8ED8-082A0EA29B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3F7C3-FF1E-4FE2-BC35-16AA7501903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760D1D-1B80-4464-9C09-CBC497F1F4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320CBC-63E8-416D-A339-9FD85EE7970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EC243-3DB5-48DE-97D7-D9AA5D6867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ED1870-710E-49B8-B6F6-2021D095972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66D9B2-DC63-409E-A5A6-32F0BD6A59C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81A0B3-A29F-4C2D-B176-0E290F8CC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8917-5470-434E-9E33-9CB7427736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D6D3E-6FA3-48C5-ABD4-8E5C5BAE70A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44DB3-A161-4663-AFE1-5D6A4C8C39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F536E-AC14-427C-A50F-0ADC0DD4A44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EF4E8-BD69-43F2-A561-7E59B4C7E3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9A3A4-8E7D-4280-9016-08D74345F26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0EF6-CF61-4BFD-8B90-DDE9D0BFE94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ABE1-4AD2-47D4-9E60-5FF83B232D7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A60EB-EB8D-4CE3-B127-83F1F65D49D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85448-62F2-401C-BFE1-E3709AE73A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25D6-A73E-482B-989E-AD17028EF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E2FD-3156-4390-94C0-063F59D3CFB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7549-B3A5-45B6-9B87-F0B75437C8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0EE0-9085-45D0-9447-6A7765B93E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C6738-F1E1-4A5F-811C-EB324C60643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11C19-42A2-44F0-9F4B-F48D6096E5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57F57-56DC-47CB-B914-3D450090775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48A44-5627-40FB-B25D-E4C5B747E65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AD373-27DC-49C1-8AFD-0B8613C0578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CAF3C-D3CB-43E0-A74E-25FF8FF5F8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F413D-4F75-4FCB-A618-15726F3A2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F1D96-3C9D-4A2B-B5BA-C4E0F8D8486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A6CFB-BCBD-471C-AF97-249AB3320C9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49EE9-E6B8-4639-84F7-B0DA363DB6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02EF7-E2C0-4B65-8779-CF86BC0FB9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84BBD-04F1-4EB6-91D8-D9305FAD5F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D60B-4D1F-4A5E-9395-232147EA9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EE19-547C-4D27-BDFD-B91856BFDE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0900B-1B35-4446-AFBC-59B282461D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C3216-3898-4B1B-A07F-D170C67F13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090CE-6D80-4738-8068-506A00ADEC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7DA92-7738-4C39-997C-E7AC1FC1DB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117C-AC82-4596-A17E-C42B34220A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95898-FB35-41AF-B21D-E42E8DE5B7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F38C0-3386-454B-BB4D-BE9D7BCFBF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937E3-38BC-4EA0-A6A1-63A3967553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EF560-BAC4-4A3E-81AD-F8764D564E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CD9B3-CC42-40E6-9F0F-FD0D7F9529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7A4C8-9447-4EB7-8380-CAD58BB259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184FF-D5D4-4375-9ED2-113E769B51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DB09C-CBFC-43E8-83AE-D831CB872B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7C15-74EA-442E-9AA3-2DF6100A77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092A1-8A2C-40F8-8B0D-1F60DA899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A614-AB21-4288-AE1B-1B5A605AAF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A5B31-20B4-461B-A306-37C1A4F879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EC45-F8FC-423D-9278-C5446015E5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71F87-DBD3-44CA-A148-617B87EA29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B6D20-4F18-4CF7-930A-3CB6FED70E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DF430-D84D-44FC-AD3D-FBF4668A00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B4C5-BF0E-4020-BDEC-0D240B0295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3DCB7-CF49-48CB-B313-9287C8A9F8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22461-B492-4DB9-9FFB-ED8B9EAB05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1062E-8965-4C71-B3E4-A2289AB2D1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B68-A6F4-42B5-A949-826EFF49F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5D85-E071-498F-8E56-F824C6E231C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F6D1-4ABC-4655-8C81-CAD9326AD7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935-0A9A-4AA4-8510-68D4C875E64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2DE0-C820-4E44-9A4E-C660BDF2B9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2B73-0D68-499C-8E2A-A8AA36DD36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6DF-674D-43DA-B663-1FA36B69ED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2EC5-2C85-4E52-B7E5-1D51C2B1A8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BBE5-5F82-41C6-ADD9-241EB329A0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5A45-17D9-4672-A98D-FE5C9B1D5F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55A2-D159-45A0-A0ED-0F4F2BEF67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1C75-B244-4101-A6CE-24F27EC36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B074-6E1A-406D-A081-E554ECF7FB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C0BA-37C4-463B-AC5E-86A557906B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40A76-C9B8-4B26-8AE4-6A4D347BA16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51B2D-03EA-4DFD-9185-ED2D422117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EBD03-E2CA-4BA0-A577-DA5F79CDEB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49D55-F8C2-4AF0-AAF3-6EB0C14AB5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82C50-121E-4E87-801D-C38878BD6F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4811F-EF80-4915-A125-75F29C7E70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E36ED-3539-4C5E-985A-CC0A75647E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AE07C-FDFC-49EA-B36C-F3088D7188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6B11C-9F63-4238-88BD-AE89EF41D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CAC8-51E0-4E5F-B161-3C43D0C004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7390C-1CF1-48B1-8590-39787AC237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3D3D3-A554-4932-9D95-345D00AD6F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906AA-EB51-40EE-9863-483CF9DEAF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FC4D49-59F4-4A63-B87C-D13CB835A4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B7AAF-EC8D-4F55-A9F0-DA97E790AA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78BC41-DF74-4EBA-A688-2FAA1DD425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0FDEE-1637-4710-8762-67D4053EF9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98CE8-5137-49DF-B826-8237102E37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537F3-A920-44F4-B0CE-C8A0AED322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094E4-9A5F-4BE5-B4D8-2789F6C61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C401-0C5A-4178-B1FD-396333956E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42774-E778-4930-9D24-292944EC12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303A4-31EF-4589-A1B0-1AA9D9BE5A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04DC3-95B6-4437-92F7-6ED7E50ABA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616B3-1C83-45AB-8CA5-0BEBD1752C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A0ADE-6455-4977-8E06-515E2C25D0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7DC1-0585-40F0-A726-9D051715760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605C-DEAB-45D8-925A-090F2CD2E1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6EAF-88C5-4433-9B13-5A4272EA7B9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5D5A-D909-4C0E-989A-36EA4BFF48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238D-C414-4D80-BC03-75724708B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5243-C567-478D-9D24-31E1E535FF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221840" y="-27000"/>
            <a:ext cx="79218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9002-83AB-4863-B5AC-80FA0FAA00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D2F1-CF1A-46EE-AE0F-72B6BE9CF4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B6BB-72D8-40A3-AAAC-980439F993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A272-68E7-46A5-9B55-6E98A258E4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042920" y="3870720"/>
            <a:ext cx="78501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72DE-F024-46AC-A86E-8184663561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5560" y="112500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4292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065560" y="3870720"/>
            <a:ext cx="38307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7B34-B661-4BBD-A602-A3ACDCB57A4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69720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351480" y="112500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04292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69720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351480" y="3870720"/>
            <a:ext cx="2527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3B14-2E44-48D5-AE11-721577E042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BC4FB-6794-4DE6-99E4-05E5762E55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88D2C-B3BC-40FB-8112-20357D0BBC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9FE90-49EB-44D1-A984-BC00E6E33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78BC-4510-423E-A81A-AF976DA98B68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414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6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27C2-8E28-4ACF-AFB8-B62B5B54E288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7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460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18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29AA-0E04-4CC3-A020-CA23A548BCE1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19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506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20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244E-EBD1-425A-8703-0ADEC54296A3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1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 rot="16200000">
            <a:off x="-2203200" y="2776680"/>
            <a:ext cx="49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22B-CDE9-44B1-AA15-4B34DC3DD865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E53B-25E6-4366-AAEE-B7B73FC21536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139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5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F5E0-8BCC-4D34-AA8C-B663DD8ACD84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184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6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D8D-1329-408E-B1E5-22DCCF7F3701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7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230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8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FF50-E50B-4DBC-BDD5-C6180D3000AD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9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276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0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56B0-2346-470D-93C8-015B90642FB7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322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2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DA8B-B7AA-40FA-AAF6-79A36A8B06BA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3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368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piè di pagina 1"/>
          <p:cNvSpPr/>
          <p:nvPr/>
        </p:nvSpPr>
        <p:spPr>
          <a:xfrm flipV="1">
            <a:off x="539640" y="362520"/>
            <a:ext cx="360360" cy="522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4"/>
          </p:nvPr>
        </p:nvSpPr>
        <p:spPr>
          <a:xfrm>
            <a:off x="8640720" y="6524640"/>
            <a:ext cx="442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CA55-5320-44AF-8522-61417BB4A1A4}" type="slidenum">
              <a:rPr b="0" i="1" lang="it-IT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5"/>
          </p:nvPr>
        </p:nvSpPr>
        <p:spPr>
          <a:xfrm>
            <a:off x="1042560" y="6524640"/>
            <a:ext cx="4824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tangolo 4"/>
          <p:cNvSpPr/>
          <p:nvPr/>
        </p:nvSpPr>
        <p:spPr>
          <a:xfrm>
            <a:off x="571680" y="1214280"/>
            <a:ext cx="357120" cy="42865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egnaposto piè di pagina 1"/>
          <p:cNvSpPr/>
          <p:nvPr/>
        </p:nvSpPr>
        <p:spPr>
          <a:xfrm flipV="1">
            <a:off x="539640" y="218880"/>
            <a:ext cx="36036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 Naddeo – S:S.D. ING-IND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3"/>
          <p:cNvSpPr/>
          <p:nvPr/>
        </p:nvSpPr>
        <p:spPr>
          <a:xfrm>
            <a:off x="2526840" y="2421000"/>
            <a:ext cx="51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Times New Roman"/>
              </a:rPr>
              <a:t>QUOTAT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3"/>
          <p:cNvSpPr/>
          <p:nvPr/>
        </p:nvSpPr>
        <p:spPr>
          <a:xfrm>
            <a:off x="2247480" y="189000"/>
            <a:ext cx="568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ndicazione delle 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5"/>
          <p:cNvSpPr/>
          <p:nvPr/>
        </p:nvSpPr>
        <p:spPr>
          <a:xfrm>
            <a:off x="1042920" y="1341360"/>
            <a:ext cx="792180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a indica una qu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a quota indica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sura di un element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ppure la misura d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stanza tra due element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a quota viene rappresentata da un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inea di misur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finata tr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ue linee di riferimen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estremità della linea di misura sono evidenziate con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recce o tratti obliqu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Il valore numerico della quota (genericamente in mm per le dimensioni lineari, in gradi per quelle angolari) è sempre riferito all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mensioni real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indipendentemente dalla scal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3"/>
          <p:cNvSpPr/>
          <p:nvPr/>
        </p:nvSpPr>
        <p:spPr>
          <a:xfrm>
            <a:off x="2367000" y="115920"/>
            <a:ext cx="51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ndicazione delle qu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1155600" y="1341360"/>
            <a:ext cx="7809120" cy="3873600"/>
          </a:xfrm>
          <a:prstGeom prst="rect">
            <a:avLst/>
          </a:prstGeom>
          <a:ln w="0">
            <a:noFill/>
          </a:ln>
        </p:spPr>
      </p:pic>
      <p:sp>
        <p:nvSpPr>
          <p:cNvPr id="580" name="Rettangolo 4"/>
          <p:cNvSpPr/>
          <p:nvPr/>
        </p:nvSpPr>
        <p:spPr>
          <a:xfrm>
            <a:off x="1619280" y="551664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 linee di misura e di riferimento devono essere eseguite con linee continue fini (tipo B UNI 396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403280" y="4645080"/>
            <a:ext cx="3586320" cy="1800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5219640" y="4500720"/>
            <a:ext cx="3457800" cy="2023920"/>
          </a:xfrm>
          <a:prstGeom prst="rect">
            <a:avLst/>
          </a:prstGeom>
          <a:ln w="0">
            <a:noFill/>
          </a:ln>
        </p:spPr>
      </p:pic>
      <p:sp>
        <p:nvSpPr>
          <p:cNvPr id="583" name="Rettangolo 5"/>
          <p:cNvSpPr/>
          <p:nvPr/>
        </p:nvSpPr>
        <p:spPr>
          <a:xfrm>
            <a:off x="2089800" y="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egole di utilizzo delle frec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ttangolo 6"/>
          <p:cNvSpPr/>
          <p:nvPr/>
        </p:nvSpPr>
        <p:spPr>
          <a:xfrm>
            <a:off x="1116000" y="72396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el disegno tecnico possono essere utilizzati vari tipi di frecce terminali: i due tratti della freccia possono formare un angolo compreso tra 15° e 90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ando la freccia è chiusa può essere completamente anneri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uno stesso disegno si devono utilizzare frecce dello stesso t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e frecce, di norma, vanno poste internamente alle linee di rifer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È possibile disporle esternamente quando sia richiesto per motivi di spazio. Per lo stesso motivo è possibile sostituire le frecce con dei punti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ttangolo 3"/>
          <p:cNvSpPr/>
          <p:nvPr/>
        </p:nvSpPr>
        <p:spPr>
          <a:xfrm>
            <a:off x="1116000" y="98100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a utile alla chiarezza del disegno le linee di misura si possono traccia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lin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iuttosto che perpendicolari alle line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ttangolo 5"/>
          <p:cNvSpPr/>
          <p:nvPr/>
        </p:nvSpPr>
        <p:spPr>
          <a:xfrm>
            <a:off x="4643280" y="43657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caso di smussi e raccordi il riferimento per la quota si determin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lungand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linee di co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995640" cy="1582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2880000" cy="1986120"/>
          </a:xfrm>
          <a:prstGeom prst="rect">
            <a:avLst/>
          </a:prstGeom>
          <a:ln w="0">
            <a:noFill/>
          </a:ln>
        </p:spPr>
      </p:pic>
      <p:sp>
        <p:nvSpPr>
          <p:cNvPr id="589" name="Rettangolo 11"/>
          <p:cNvSpPr/>
          <p:nvPr/>
        </p:nvSpPr>
        <p:spPr>
          <a:xfrm>
            <a:off x="1076040" y="171360"/>
            <a:ext cx="781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si particolari di disposizione delle linee di qu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ttangolo 6"/>
          <p:cNvSpPr/>
          <p:nvPr/>
        </p:nvSpPr>
        <p:spPr>
          <a:xfrm>
            <a:off x="4932360" y="120168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caso di pezzi simmetrici le linee di misura devono proseguire fino 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rpassare l’asse di simmetri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delimita l’interr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7"/>
          <p:cNvSpPr/>
          <p:nvPr/>
        </p:nvSpPr>
        <p:spPr>
          <a:xfrm>
            <a:off x="1187280" y="3573360"/>
            <a:ext cx="39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un oggetto è rappresentato in semivista ed in semise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quote relative alle parti esterne si indicano nella semivista, quelle relative alle parti interne nella semise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627720" cy="17272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3095640" cy="2078280"/>
          </a:xfrm>
          <a:prstGeom prst="rect">
            <a:avLst/>
          </a:prstGeom>
          <a:ln w="0">
            <a:noFill/>
          </a:ln>
        </p:spPr>
      </p:pic>
      <p:sp>
        <p:nvSpPr>
          <p:cNvPr id="594" name="Rettangolo 11"/>
          <p:cNvSpPr/>
          <p:nvPr/>
        </p:nvSpPr>
        <p:spPr>
          <a:xfrm>
            <a:off x="1076040" y="243000"/>
            <a:ext cx="781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si particolari di disposizione delle linee di qu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ttangolo 3"/>
          <p:cNvSpPr/>
          <p:nvPr/>
        </p:nvSpPr>
        <p:spPr>
          <a:xfrm>
            <a:off x="971640" y="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riteri per la scrittura delle quote – criteri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5867280" y="2205000"/>
            <a:ext cx="2808360" cy="43434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1073160" y="2637000"/>
            <a:ext cx="4506840" cy="3240000"/>
          </a:xfrm>
          <a:prstGeom prst="rect">
            <a:avLst/>
          </a:prstGeom>
          <a:ln w="0">
            <a:noFill/>
          </a:ln>
        </p:spPr>
      </p:pic>
      <p:sp>
        <p:nvSpPr>
          <p:cNvPr id="598" name="Rettangolo 7"/>
          <p:cNvSpPr/>
          <p:nvPr/>
        </p:nvSpPr>
        <p:spPr>
          <a:xfrm>
            <a:off x="1332000" y="716040"/>
            <a:ext cx="73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quote devono essere scritte parallelamente alla linea di misura, al disopra e staccate da esse. I valori devono poter essere letti dalla base o dal lato destro del diseg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rcRect l="0" t="0" r="0" b="16239"/>
          <a:stretch/>
        </p:blipFill>
        <p:spPr>
          <a:xfrm>
            <a:off x="5148360" y="2276640"/>
            <a:ext cx="3620880" cy="381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rcRect l="0" t="0" r="0" b="26759"/>
          <a:stretch/>
        </p:blipFill>
        <p:spPr>
          <a:xfrm>
            <a:off x="1332000" y="2708280"/>
            <a:ext cx="2808360" cy="2701800"/>
          </a:xfrm>
          <a:prstGeom prst="rect">
            <a:avLst/>
          </a:prstGeom>
          <a:ln w="0">
            <a:noFill/>
          </a:ln>
        </p:spPr>
      </p:pic>
      <p:sp>
        <p:nvSpPr>
          <p:cNvPr id="601" name="Rettangolo 5"/>
          <p:cNvSpPr/>
          <p:nvPr/>
        </p:nvSpPr>
        <p:spPr>
          <a:xfrm>
            <a:off x="971640" y="1080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riteri per la scrittura delle quote – criteri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ttangolo 6"/>
          <p:cNvSpPr/>
          <p:nvPr/>
        </p:nvSpPr>
        <p:spPr>
          <a:xfrm>
            <a:off x="1042920" y="69228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quote devono poter essere lette soltanto dalla base del disegno. Le linee di misura verticali ed oblique devono essere interrotte nella loro parte mediana per la scrittura della qu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CasellaDiTesto 7"/>
          <p:cNvSpPr/>
          <p:nvPr/>
        </p:nvSpPr>
        <p:spPr>
          <a:xfrm>
            <a:off x="2007720" y="5445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riteri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CasellaDiTesto 8"/>
          <p:cNvSpPr/>
          <p:nvPr/>
        </p:nvSpPr>
        <p:spPr>
          <a:xfrm>
            <a:off x="6471000" y="61545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riteri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ttangolo 3"/>
          <p:cNvSpPr/>
          <p:nvPr/>
        </p:nvSpPr>
        <p:spPr>
          <a:xfrm>
            <a:off x="1271880" y="190440"/>
            <a:ext cx="74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egole per la scrittura delle quot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ttangolo 5"/>
          <p:cNvSpPr/>
          <p:nvPr/>
        </p:nvSpPr>
        <p:spPr>
          <a:xfrm>
            <a:off x="1258920" y="10047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assi di simmetria e le linee di contorno non devono essere mai usati come linee di misura. Si possono invece utilizzare come line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2268360" y="2303640"/>
            <a:ext cx="5705640" cy="1701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2279520" y="4222800"/>
            <a:ext cx="57484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2484360" y="1903320"/>
            <a:ext cx="5400720" cy="23176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"/>
          <p:cNvPicPr/>
          <p:nvPr/>
        </p:nvPicPr>
        <p:blipFill>
          <a:blip r:embed="rId2"/>
          <a:stretch/>
        </p:blipFill>
        <p:spPr>
          <a:xfrm>
            <a:off x="2484360" y="4395960"/>
            <a:ext cx="5362560" cy="2057400"/>
          </a:xfrm>
          <a:prstGeom prst="rect">
            <a:avLst/>
          </a:prstGeom>
          <a:ln w="0">
            <a:noFill/>
          </a:ln>
        </p:spPr>
      </p:pic>
      <p:sp>
        <p:nvSpPr>
          <p:cNvPr id="611" name="Rettangolo 5"/>
          <p:cNvSpPr/>
          <p:nvPr/>
        </p:nvSpPr>
        <p:spPr>
          <a:xfrm>
            <a:off x="1294200" y="108000"/>
            <a:ext cx="74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egole per la scrittura delle quot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ttangolo 6"/>
          <p:cNvSpPr/>
          <p:nvPr/>
        </p:nvSpPr>
        <p:spPr>
          <a:xfrm>
            <a:off x="1258920" y="8683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tersezione delle linee di misura con quelle di riferimento deve essere, per quanto possibile evit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68360" y="2001960"/>
            <a:ext cx="5575320" cy="1931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2268360" y="4248000"/>
            <a:ext cx="5639040" cy="2060640"/>
          </a:xfrm>
          <a:prstGeom prst="rect">
            <a:avLst/>
          </a:prstGeom>
          <a:ln w="0">
            <a:noFill/>
          </a:ln>
        </p:spPr>
      </p:pic>
      <p:sp>
        <p:nvSpPr>
          <p:cNvPr id="615" name="Rettangolo 5"/>
          <p:cNvSpPr/>
          <p:nvPr/>
        </p:nvSpPr>
        <p:spPr>
          <a:xfrm>
            <a:off x="891000" y="128520"/>
            <a:ext cx="82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egole per la scrittura delle quot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ttangolo 6"/>
          <p:cNvSpPr/>
          <p:nvPr/>
        </p:nvSpPr>
        <p:spPr>
          <a:xfrm>
            <a:off x="1403280" y="9619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linee di misura devono essere tracciate, per quanto possibile, all’esterno della fig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2"/>
          <p:cNvSpPr/>
          <p:nvPr/>
        </p:nvSpPr>
        <p:spPr>
          <a:xfrm>
            <a:off x="1549440" y="21096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asellaDiTesto 2"/>
          <p:cNvSpPr/>
          <p:nvPr/>
        </p:nvSpPr>
        <p:spPr>
          <a:xfrm>
            <a:off x="1619280" y="1424160"/>
            <a:ext cx="66261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La quota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Le regole di quota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Quotatura fun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Quotatura Tecnologica (di fabbricazio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Quotatura di collau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31920" y="2349360"/>
            <a:ext cx="3627360" cy="388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"/>
          <p:cNvPicPr/>
          <p:nvPr/>
        </p:nvPicPr>
        <p:blipFill>
          <a:blip r:embed="rId2"/>
          <a:stretch/>
        </p:blipFill>
        <p:spPr>
          <a:xfrm>
            <a:off x="5076720" y="2349360"/>
            <a:ext cx="3757680" cy="3888000"/>
          </a:xfrm>
          <a:prstGeom prst="rect">
            <a:avLst/>
          </a:prstGeom>
          <a:ln w="0">
            <a:noFill/>
          </a:ln>
        </p:spPr>
      </p:pic>
      <p:sp>
        <p:nvSpPr>
          <p:cNvPr id="619" name="Rettangolo 5"/>
          <p:cNvSpPr/>
          <p:nvPr/>
        </p:nvSpPr>
        <p:spPr>
          <a:xfrm>
            <a:off x="1229040" y="115920"/>
            <a:ext cx="76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di elementi non in v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ttangolo 6"/>
          <p:cNvSpPr/>
          <p:nvPr/>
        </p:nvSpPr>
        <p:spPr>
          <a:xfrm>
            <a:off x="1332000" y="1106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quote non devono essere riferite ad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lementi non in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e 7"/>
          <p:cNvSpPr/>
          <p:nvPr/>
        </p:nvSpPr>
        <p:spPr>
          <a:xfrm>
            <a:off x="5580000" y="4508640"/>
            <a:ext cx="86364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3953160" cy="3600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5508720" y="2781360"/>
            <a:ext cx="3389040" cy="3887640"/>
          </a:xfrm>
          <a:prstGeom prst="rect">
            <a:avLst/>
          </a:prstGeom>
          <a:ln w="0">
            <a:noFill/>
          </a:ln>
        </p:spPr>
      </p:pic>
      <p:sp>
        <p:nvSpPr>
          <p:cNvPr id="624" name="Rettangolo 5"/>
          <p:cNvSpPr/>
          <p:nvPr/>
        </p:nvSpPr>
        <p:spPr>
          <a:xfrm>
            <a:off x="1422000" y="66600"/>
            <a:ext cx="728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arti rappresentate di sco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ttangolo 6"/>
          <p:cNvSpPr/>
          <p:nvPr/>
        </p:nvSpPr>
        <p:spPr>
          <a:xfrm>
            <a:off x="1258920" y="76500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una vista le quote devono riferirsi soltanto ad elementi che nel pezzo risultano paralleli al piano di proiezio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n è possibile quotare elemento che sono rappresentati di scor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e 7"/>
          <p:cNvSpPr/>
          <p:nvPr/>
        </p:nvSpPr>
        <p:spPr>
          <a:xfrm>
            <a:off x="3490920" y="429264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608520" cy="2303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"/>
          <p:cNvPicPr/>
          <p:nvPr/>
        </p:nvPicPr>
        <p:blipFill>
          <a:blip r:embed="rId2"/>
          <a:stretch/>
        </p:blipFill>
        <p:spPr>
          <a:xfrm>
            <a:off x="1835280" y="4654440"/>
            <a:ext cx="6629400" cy="2087640"/>
          </a:xfrm>
          <a:prstGeom prst="rect">
            <a:avLst/>
          </a:prstGeom>
          <a:ln w="0">
            <a:noFill/>
          </a:ln>
        </p:spPr>
      </p:pic>
      <p:sp>
        <p:nvSpPr>
          <p:cNvPr id="629" name="Rettangolo 5"/>
          <p:cNvSpPr/>
          <p:nvPr/>
        </p:nvSpPr>
        <p:spPr>
          <a:xfrm>
            <a:off x="1428480" y="0"/>
            <a:ext cx="71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di dimensioni fuori 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ttangolo 6"/>
          <p:cNvSpPr/>
          <p:nvPr/>
        </p:nvSpPr>
        <p:spPr>
          <a:xfrm>
            <a:off x="971640" y="54936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di elementi per i quali, a causa di un’interruzione della vista, la loro lunghezza non è rilevabile dal disegno e dalla scala (quote fuori scala),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vono essere sottoline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643040" y="2576520"/>
            <a:ext cx="6384960" cy="2940120"/>
          </a:xfrm>
          <a:prstGeom prst="rect">
            <a:avLst/>
          </a:prstGeom>
          <a:ln w="0">
            <a:noFill/>
          </a:ln>
        </p:spPr>
      </p:pic>
      <p:sp>
        <p:nvSpPr>
          <p:cNvPr id="632" name="Rettangolo 5"/>
          <p:cNvSpPr/>
          <p:nvPr/>
        </p:nvSpPr>
        <p:spPr>
          <a:xfrm>
            <a:off x="2361600" y="66600"/>
            <a:ext cx="49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di ang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ttangolo 6"/>
          <p:cNvSpPr/>
          <p:nvPr/>
        </p:nvSpPr>
        <p:spPr>
          <a:xfrm>
            <a:off x="1332000" y="1125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quotatura di angoli si può effettuare come riportato in fig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959440" cy="1943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2050920" y="4525920"/>
            <a:ext cx="5905800" cy="2143080"/>
          </a:xfrm>
          <a:prstGeom prst="rect">
            <a:avLst/>
          </a:prstGeom>
          <a:ln w="0">
            <a:noFill/>
          </a:ln>
        </p:spPr>
      </p:pic>
      <p:sp>
        <p:nvSpPr>
          <p:cNvPr id="636" name="Rettangolo 5"/>
          <p:cNvSpPr/>
          <p:nvPr/>
        </p:nvSpPr>
        <p:spPr>
          <a:xfrm>
            <a:off x="2148120" y="44280"/>
            <a:ext cx="54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di diame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ttangolo 6"/>
          <p:cNvSpPr/>
          <p:nvPr/>
        </p:nvSpPr>
        <p:spPr>
          <a:xfrm>
            <a:off x="1042920" y="8208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quote relative a diametri debbono essere, in generale, precedute dal simbolo </a:t>
            </a:r>
            <a:r>
              <a:rPr b="1" lang="it-IT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Quando dal disegno appare con chiarezza che l’elemento quotato è un diametro il simbolo </a:t>
            </a:r>
            <a:r>
              <a:rPr b="1" lang="it-IT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uò essere om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4008600" cy="25207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613320" cy="3008160"/>
          </a:xfrm>
          <a:prstGeom prst="rect">
            <a:avLst/>
          </a:prstGeom>
          <a:ln w="0">
            <a:noFill/>
          </a:ln>
        </p:spPr>
      </p:pic>
      <p:sp>
        <p:nvSpPr>
          <p:cNvPr id="640" name="Rettangolo 5"/>
          <p:cNvSpPr/>
          <p:nvPr/>
        </p:nvSpPr>
        <p:spPr>
          <a:xfrm>
            <a:off x="2504520" y="11592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di rag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ttangolo 6"/>
          <p:cNvSpPr/>
          <p:nvPr/>
        </p:nvSpPr>
        <p:spPr>
          <a:xfrm>
            <a:off x="1332000" y="1052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quote di raggi devono essere precedute dal simbol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ttangolo 7"/>
          <p:cNvSpPr/>
          <p:nvPr/>
        </p:nvSpPr>
        <p:spPr>
          <a:xfrm>
            <a:off x="1403280" y="55897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.B.: non e’ corretto utilizzare la lettera “r” minuscola o inserire un “ R= “ o un “ R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1332000" y="2606760"/>
            <a:ext cx="3168720" cy="36306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5573880" y="2495520"/>
            <a:ext cx="2885760" cy="3886200"/>
          </a:xfrm>
          <a:prstGeom prst="rect">
            <a:avLst/>
          </a:prstGeom>
          <a:ln w="0">
            <a:noFill/>
          </a:ln>
        </p:spPr>
      </p:pic>
      <p:sp>
        <p:nvSpPr>
          <p:cNvPr id="645" name="Rettangolo 5"/>
          <p:cNvSpPr/>
          <p:nvPr/>
        </p:nvSpPr>
        <p:spPr>
          <a:xfrm>
            <a:off x="2084040" y="115920"/>
            <a:ext cx="60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di parti sfer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ttangolo 6"/>
          <p:cNvSpPr/>
          <p:nvPr/>
        </p:nvSpPr>
        <p:spPr>
          <a:xfrm>
            <a:off x="1116000" y="981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parti sferiche possono essere quotate mediante il diametro od il raggio. La quota è preceduta, rispettivamente, dai simbol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it-IT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Ø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e S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1908000" y="2625840"/>
            <a:ext cx="2519640" cy="3827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"/>
          <p:cNvPicPr/>
          <p:nvPr/>
        </p:nvPicPr>
        <p:blipFill>
          <a:blip r:embed="rId2"/>
          <a:stretch/>
        </p:blipFill>
        <p:spPr>
          <a:xfrm>
            <a:off x="6227640" y="2597040"/>
            <a:ext cx="2266920" cy="4145040"/>
          </a:xfrm>
          <a:prstGeom prst="rect">
            <a:avLst/>
          </a:prstGeom>
          <a:ln w="0">
            <a:noFill/>
          </a:ln>
        </p:spPr>
      </p:pic>
      <p:sp>
        <p:nvSpPr>
          <p:cNvPr id="649" name="Rettangolo 5"/>
          <p:cNvSpPr/>
          <p:nvPr/>
        </p:nvSpPr>
        <p:spPr>
          <a:xfrm>
            <a:off x="2725200" y="57240"/>
            <a:ext cx="46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di quad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ttangolo 6"/>
          <p:cNvSpPr/>
          <p:nvPr/>
        </p:nvSpPr>
        <p:spPr>
          <a:xfrm>
            <a:off x="1008000" y="692280"/>
            <a:ext cx="802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La quota corrispondente ad un lato di un elemento a sezione quadrata deve essere preceduta dal simbolo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□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Non è necessario porre il simbolo □ quando dal disegno si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evidenzia chiaramente che si tratta di un quad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658880" y="2852640"/>
            <a:ext cx="6585120" cy="3672000"/>
          </a:xfrm>
          <a:prstGeom prst="rect">
            <a:avLst/>
          </a:prstGeom>
          <a:ln w="0">
            <a:noFill/>
          </a:ln>
        </p:spPr>
      </p:pic>
      <p:sp>
        <p:nvSpPr>
          <p:cNvPr id="652" name="Rettangolo 5"/>
          <p:cNvSpPr/>
          <p:nvPr/>
        </p:nvSpPr>
        <p:spPr>
          <a:xfrm>
            <a:off x="2581920" y="5724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di smus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ttangolo 6"/>
          <p:cNvSpPr/>
          <p:nvPr/>
        </p:nvSpPr>
        <p:spPr>
          <a:xfrm>
            <a:off x="1189080" y="82080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li smussi devono essere quotati mediante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ofondità assi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a superficie smussata ed il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miangolo al vertic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Se il semiangolo al vertice è pari a 45° la quotatura viene semplific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187280" y="2127240"/>
            <a:ext cx="3529080" cy="41814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"/>
          <p:cNvPicPr/>
          <p:nvPr/>
        </p:nvPicPr>
        <p:blipFill>
          <a:blip r:embed="rId2"/>
          <a:stretch/>
        </p:blipFill>
        <p:spPr>
          <a:xfrm>
            <a:off x="4925880" y="2184480"/>
            <a:ext cx="4038840" cy="41241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5"/>
          <p:cNvSpPr/>
          <p:nvPr/>
        </p:nvSpPr>
        <p:spPr>
          <a:xfrm>
            <a:off x="2082960" y="57240"/>
            <a:ext cx="59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di parti con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6"/>
          <p:cNvSpPr/>
          <p:nvPr/>
        </p:nvSpPr>
        <p:spPr>
          <a:xfrm>
            <a:off x="1332000" y="90792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parti coniche possono quotarsi in vari modi, come mostrato nelle figure segu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ttangolo 3"/>
          <p:cNvSpPr/>
          <p:nvPr/>
        </p:nvSpPr>
        <p:spPr>
          <a:xfrm>
            <a:off x="1332000" y="1004760"/>
            <a:ext cx="741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otatura = l’insieme delle norme che permettono, in un disegno,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dicare esplicitamente le dimensioni real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lineari ed angolari) dell’oggetto rappresent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iché a ciascun disegno è associata un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cal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si potrebbero, in teoria, ricavare le dimensioni degli oggetti rappresentati eseguendo un rilievo direttamente sul diseg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ttangolo 5"/>
          <p:cNvSpPr/>
          <p:nvPr/>
        </p:nvSpPr>
        <p:spPr>
          <a:xfrm>
            <a:off x="3433320" y="4428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Defini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258920" y="2141640"/>
            <a:ext cx="5545080" cy="19350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"/>
          <p:cNvPicPr/>
          <p:nvPr/>
        </p:nvPicPr>
        <p:blipFill>
          <a:blip r:embed="rId2"/>
          <a:stretch/>
        </p:blipFill>
        <p:spPr>
          <a:xfrm>
            <a:off x="4591080" y="4192560"/>
            <a:ext cx="4157640" cy="2476440"/>
          </a:xfrm>
          <a:prstGeom prst="rect">
            <a:avLst/>
          </a:prstGeom>
          <a:ln w="0">
            <a:noFill/>
          </a:ln>
        </p:spPr>
      </p:pic>
      <p:sp>
        <p:nvSpPr>
          <p:cNvPr id="660" name="Rettangolo 5"/>
          <p:cNvSpPr/>
          <p:nvPr/>
        </p:nvSpPr>
        <p:spPr>
          <a:xfrm>
            <a:off x="1656720" y="128520"/>
            <a:ext cx="67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di elementi ripetu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ttangolo 6"/>
          <p:cNvSpPr/>
          <p:nvPr/>
        </p:nvSpPr>
        <p:spPr>
          <a:xfrm>
            <a:off x="1116000" y="96372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ando compaiono elementi ripetuti si possono usare, per semplicità, le indicazioni riportate in fig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2268360" y="2001960"/>
            <a:ext cx="5634360" cy="4379760"/>
          </a:xfrm>
          <a:prstGeom prst="rect">
            <a:avLst/>
          </a:prstGeom>
          <a:ln w="0">
            <a:noFill/>
          </a:ln>
        </p:spPr>
      </p:pic>
      <p:sp>
        <p:nvSpPr>
          <p:cNvPr id="663" name="Rettangolo 5"/>
          <p:cNvSpPr/>
          <p:nvPr/>
        </p:nvSpPr>
        <p:spPr>
          <a:xfrm>
            <a:off x="1864440" y="108000"/>
            <a:ext cx="58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Utilizzo di lettere di richi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ttangolo 6"/>
          <p:cNvSpPr/>
          <p:nvPr/>
        </p:nvSpPr>
        <p:spPr>
          <a:xfrm>
            <a:off x="1258920" y="981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di gruppi di elementi uguali si può effettuare utilizzando lettere di richi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ttangolo 5"/>
          <p:cNvSpPr/>
          <p:nvPr/>
        </p:nvSpPr>
        <p:spPr>
          <a:xfrm>
            <a:off x="941040" y="189000"/>
            <a:ext cx="81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e di dimensione e quote di pos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ttangolo 6"/>
          <p:cNvSpPr/>
          <p:nvPr/>
        </p:nvSpPr>
        <p:spPr>
          <a:xfrm>
            <a:off x="1187280" y="1341360"/>
            <a:ext cx="7705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quote di dimens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terminano la dimensione degli elementi geometri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quote di posi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abiliscono la posizione relativa degli elementi geometri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ando le quote di posizione sono di un elemento riferito ad un altro, vengono chiamate “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quote di accoppiamen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.B.: la posizione di fori va sempre definita con riferimento all’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3543480" cy="3495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"/>
          <p:cNvPicPr/>
          <p:nvPr/>
        </p:nvPicPr>
        <p:blipFill>
          <a:blip r:embed="rId2"/>
          <a:stretch/>
        </p:blipFill>
        <p:spPr>
          <a:xfrm>
            <a:off x="5292720" y="2852640"/>
            <a:ext cx="3492360" cy="3654360"/>
          </a:xfrm>
          <a:prstGeom prst="rect">
            <a:avLst/>
          </a:prstGeom>
          <a:ln w="0">
            <a:noFill/>
          </a:ln>
        </p:spPr>
      </p:pic>
      <p:sp>
        <p:nvSpPr>
          <p:cNvPr id="669" name="Rettangolo 5"/>
          <p:cNvSpPr/>
          <p:nvPr/>
        </p:nvSpPr>
        <p:spPr>
          <a:xfrm>
            <a:off x="1504800" y="0"/>
            <a:ext cx="72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ote di dimensione e quote di posi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ccia in giù 7"/>
          <p:cNvSpPr/>
          <p:nvPr/>
        </p:nvSpPr>
        <p:spPr>
          <a:xfrm rot="17577000">
            <a:off x="4502880" y="4215240"/>
            <a:ext cx="446040" cy="927000"/>
          </a:xfrm>
          <a:prstGeom prst="downArrow">
            <a:avLst>
              <a:gd name="adj1" fmla="val 50000"/>
              <a:gd name="adj2" fmla="val 500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ttangolo 5"/>
          <p:cNvSpPr/>
          <p:nvPr/>
        </p:nvSpPr>
        <p:spPr>
          <a:xfrm>
            <a:off x="2431440" y="6480"/>
            <a:ext cx="456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in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ttangolo 6"/>
          <p:cNvSpPr/>
          <p:nvPr/>
        </p:nvSpPr>
        <p:spPr>
          <a:xfrm>
            <a:off x="1187280" y="981000"/>
            <a:ext cx="748836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la quotatura in serie ciascun elemento è quotato con riferimento all’elemento immediatamente adiac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ccumulo degli error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ociati a ogni singola quota produce un errore tra due elementi non contigui maggiore di quello tra due elementi contig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la quotatura in serie non è stabilit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essun elemento di riferiment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 di partenza per il controllo o la costruzione del pez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6551640" cy="3540240"/>
          </a:xfrm>
          <a:prstGeom prst="rect">
            <a:avLst/>
          </a:prstGeom>
          <a:ln w="0">
            <a:noFill/>
          </a:ln>
        </p:spPr>
      </p:pic>
      <p:sp>
        <p:nvSpPr>
          <p:cNvPr id="674" name="Rettangolo 5"/>
          <p:cNvSpPr/>
          <p:nvPr/>
        </p:nvSpPr>
        <p:spPr>
          <a:xfrm>
            <a:off x="2575800" y="115920"/>
            <a:ext cx="456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in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ttangolo 6"/>
          <p:cNvSpPr/>
          <p:nvPr/>
        </p:nvSpPr>
        <p:spPr>
          <a:xfrm>
            <a:off x="1332000" y="99540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iene utilizzata quando è importante le lunghezza di ogni singolo elemento (nell’esempio in figura l’interasse tra due fori consecutivi) e quando l’accumulo degli errori non compromette la funzionalità del pez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ttangolo 5"/>
          <p:cNvSpPr/>
          <p:nvPr/>
        </p:nvSpPr>
        <p:spPr>
          <a:xfrm>
            <a:off x="2148120" y="262080"/>
            <a:ext cx="556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in paral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ttangolo 6"/>
          <p:cNvSpPr/>
          <p:nvPr/>
        </p:nvSpPr>
        <p:spPr>
          <a:xfrm>
            <a:off x="1332000" y="1925640"/>
            <a:ext cx="730872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la quotatura in parallelo tutte le quote sono date rispetto ad un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ferimento comu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he può essere un punto, un asse, uno spigolo, ec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questo caso l’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rro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ulla singola quota è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dipende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agli errori sulle altre (l’errore relativo ad un asse non influenza la posizione degli altr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5940720" cy="3652920"/>
          </a:xfrm>
          <a:prstGeom prst="rect">
            <a:avLst/>
          </a:prstGeom>
          <a:ln w="0">
            <a:noFill/>
          </a:ln>
        </p:spPr>
      </p:pic>
      <p:sp>
        <p:nvSpPr>
          <p:cNvPr id="679" name="Rettangolo 5"/>
          <p:cNvSpPr/>
          <p:nvPr/>
        </p:nvSpPr>
        <p:spPr>
          <a:xfrm>
            <a:off x="2220480" y="44280"/>
            <a:ext cx="556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in paral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ttangolo 6"/>
          <p:cNvSpPr/>
          <p:nvPr/>
        </p:nvSpPr>
        <p:spPr>
          <a:xfrm>
            <a:off x="1116000" y="692280"/>
            <a:ext cx="71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osserva come tale tipo di quotatura pone in particolare risalto l’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lemento utilizzato come riferimen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A tale elemento saranno in genere associate specifiche caratteristiche funzionali e tecnologi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6835680" cy="3095640"/>
          </a:xfrm>
          <a:prstGeom prst="rect">
            <a:avLst/>
          </a:prstGeom>
          <a:ln w="0">
            <a:noFill/>
          </a:ln>
        </p:spPr>
      </p:pic>
      <p:sp>
        <p:nvSpPr>
          <p:cNvPr id="682" name="Rettangolo 5"/>
          <p:cNvSpPr/>
          <p:nvPr/>
        </p:nvSpPr>
        <p:spPr>
          <a:xfrm>
            <a:off x="1584720" y="44280"/>
            <a:ext cx="69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a quote sovrappo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ttangolo 6"/>
          <p:cNvSpPr/>
          <p:nvPr/>
        </p:nvSpPr>
        <p:spPr>
          <a:xfrm>
            <a:off x="1116000" y="765000"/>
            <a:ext cx="759636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a quote sovrapposte è una variante grafica della quotatura in parallelo, con lo scopo principale di realizzare un’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conomia di spazi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l diseg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linea di misura è unica e fa capo ad un elemento di riferimento comune contrassegnato con 0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2916360" y="3284640"/>
            <a:ext cx="5040360" cy="3423960"/>
          </a:xfrm>
          <a:prstGeom prst="rect">
            <a:avLst/>
          </a:prstGeom>
          <a:ln w="0">
            <a:noFill/>
          </a:ln>
        </p:spPr>
      </p:pic>
      <p:sp>
        <p:nvSpPr>
          <p:cNvPr id="685" name="Rettangolo 5"/>
          <p:cNvSpPr/>
          <p:nvPr/>
        </p:nvSpPr>
        <p:spPr>
          <a:xfrm>
            <a:off x="2363040" y="4608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otatura comb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ttangolo 6"/>
          <p:cNvSpPr/>
          <p:nvPr/>
        </p:nvSpPr>
        <p:spPr>
          <a:xfrm>
            <a:off x="1042920" y="719280"/>
            <a:ext cx="77770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combinata è un sistema che comprende sia la quotatura in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ri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ia quella in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arallel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iene utilizzata quando il pezzo da quotare presenta più di un elemento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tratta del sistema più frequentemente utilizzato nei diseg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ttangolo 3"/>
          <p:cNvSpPr/>
          <p:nvPr/>
        </p:nvSpPr>
        <p:spPr>
          <a:xfrm>
            <a:off x="1042920" y="1557360"/>
            <a:ext cx="802980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regole di quotatura sono dettate dalle seguenti nor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I 3973 – Quot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I 3974 – Sistemi di quot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I 3975 – Convenzioni di quot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I 4820 – Definizioni e principi di quot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ttangolo 5"/>
          <p:cNvSpPr/>
          <p:nvPr/>
        </p:nvSpPr>
        <p:spPr>
          <a:xfrm>
            <a:off x="2027520" y="44280"/>
            <a:ext cx="56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Normativa di rif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2619360" y="2793960"/>
            <a:ext cx="6200640" cy="4019760"/>
          </a:xfrm>
          <a:prstGeom prst="rect">
            <a:avLst/>
          </a:prstGeom>
          <a:ln w="0">
            <a:noFill/>
          </a:ln>
        </p:spPr>
      </p:pic>
      <p:sp>
        <p:nvSpPr>
          <p:cNvPr id="688" name="Rettangolo 5"/>
          <p:cNvSpPr/>
          <p:nvPr/>
        </p:nvSpPr>
        <p:spPr>
          <a:xfrm>
            <a:off x="2296800" y="-270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in coordin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ttangolo 6"/>
          <p:cNvSpPr/>
          <p:nvPr/>
        </p:nvSpPr>
        <p:spPr>
          <a:xfrm>
            <a:off x="1042920" y="620640"/>
            <a:ext cx="792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quotatura in coordinate le quote sono riferite ad un unico punto, preso come origine per la quotat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quote vengono quindi raggruppate in una tab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possibile sia la quotatura in coordina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rtesia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he in coordina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la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ttangolo 3"/>
          <p:cNvSpPr/>
          <p:nvPr/>
        </p:nvSpPr>
        <p:spPr>
          <a:xfrm>
            <a:off x="1154880" y="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secondo lo scopo del diseg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ttangolo 5"/>
          <p:cNvSpPr/>
          <p:nvPr/>
        </p:nvSpPr>
        <p:spPr>
          <a:xfrm>
            <a:off x="1116000" y="758880"/>
            <a:ext cx="7848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sistemi di quotatura fin qui visti permettono di impostare correttamente il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mensionamen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i un generico compo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la pratica industriale, tuttavia, spesso non è sufficiente che la quotatura di un oggetto sia corretta da un punto di vista geometr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fatti, per ciascun oggetto, esistono diversi possibili approcci alla  quotatura, tutti corretti geometricamente, ma solo alcuni validi dal punto di vista tecn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ttangolo 3"/>
          <p:cNvSpPr/>
          <p:nvPr/>
        </p:nvSpPr>
        <p:spPr>
          <a:xfrm>
            <a:off x="1154880" y="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secondo lo scopo del diseg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ttangolo 5"/>
          <p:cNvSpPr/>
          <p:nvPr/>
        </p:nvSpPr>
        <p:spPr>
          <a:xfrm>
            <a:off x="1116000" y="1392120"/>
            <a:ext cx="784872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quotatura quindi dipende strettamente dall’ambito di utilizzo del diseg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distinguono, in particolare, due ambiti specifi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quotatura funzio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quotatura tecnologica (o di fabbricazione) e di colla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ttangolo 3"/>
          <p:cNvSpPr/>
          <p:nvPr/>
        </p:nvSpPr>
        <p:spPr>
          <a:xfrm>
            <a:off x="1154880" y="4608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secondo lo scopo del diseg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ttangolo 6"/>
          <p:cNvSpPr/>
          <p:nvPr/>
        </p:nvSpPr>
        <p:spPr>
          <a:xfrm>
            <a:off x="3564000" y="1090440"/>
            <a:ext cx="2952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otatura ge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ttangolo 7"/>
          <p:cNvSpPr/>
          <p:nvPr/>
        </p:nvSpPr>
        <p:spPr>
          <a:xfrm>
            <a:off x="1116000" y="3251160"/>
            <a:ext cx="3600360" cy="289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otatura fun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lla quotatura funzionale si evidenziano, in prevalenza, le quote che sono fondamentali ai fini de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rretto funzionament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’og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distinguono le quote in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unzionali, non funzionali ed ausili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8"/>
          <p:cNvSpPr/>
          <p:nvPr/>
        </p:nvSpPr>
        <p:spPr>
          <a:xfrm>
            <a:off x="5148360" y="3251160"/>
            <a:ext cx="3708360" cy="295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otatura tecnologica e di colla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lla quotatura tecnologica e di collaudo si evidenziano in prevalenza le quote utili ai fini del particolar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iclo di lavorazion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ato per la produzione del componente e per i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llaud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o st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Connettore 2 8"/>
          <p:cNvCxnSpPr>
            <a:stCxn id="695" idx="2"/>
            <a:endCxn id="696" idx="0"/>
          </p:cNvCxnSpPr>
          <p:nvPr/>
        </p:nvCxnSpPr>
        <p:spPr>
          <a:xfrm flipH="1">
            <a:off x="2916000" y="1922040"/>
            <a:ext cx="2124720" cy="132948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99" name="Connettore 2 10"/>
          <p:cNvCxnSpPr>
            <a:stCxn id="695" idx="2"/>
            <a:endCxn id="697" idx="0"/>
          </p:cNvCxnSpPr>
          <p:nvPr/>
        </p:nvCxnSpPr>
        <p:spPr>
          <a:xfrm>
            <a:off x="5040360" y="1922040"/>
            <a:ext cx="1962720" cy="132948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ttangolo 5"/>
          <p:cNvSpPr/>
          <p:nvPr/>
        </p:nvSpPr>
        <p:spPr>
          <a:xfrm>
            <a:off x="1185840" y="896760"/>
            <a:ext cx="763416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quot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unzional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quote che ricoprono un ruolo fondamentale per il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funzionament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 compon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quot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on funzional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quote ch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non ricoprono un ruolo essenziale per il funzionament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 compon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quot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usiliarie sono quot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ducibili (per somma o per differenza) da altre quote (devono essere indicate tra parentes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ttangolo 6"/>
          <p:cNvSpPr/>
          <p:nvPr/>
        </p:nvSpPr>
        <p:spPr>
          <a:xfrm>
            <a:off x="2509200" y="4428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4427640" y="2233440"/>
            <a:ext cx="4527360" cy="4364280"/>
          </a:xfrm>
          <a:prstGeom prst="rect">
            <a:avLst/>
          </a:prstGeom>
          <a:ln w="0">
            <a:noFill/>
          </a:ln>
        </p:spPr>
      </p:pic>
      <p:sp>
        <p:nvSpPr>
          <p:cNvPr id="703" name="Rettangolo 6"/>
          <p:cNvSpPr/>
          <p:nvPr/>
        </p:nvSpPr>
        <p:spPr>
          <a:xfrm>
            <a:off x="2599560" y="4428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ttangolo 6"/>
          <p:cNvSpPr/>
          <p:nvPr/>
        </p:nvSpPr>
        <p:spPr>
          <a:xfrm>
            <a:off x="1042920" y="90792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la figura le quote relative a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rghezza della scanalatura del component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feriore ed a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rghezza del risalto nel component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periore sono quote funzion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ttangolo 5"/>
          <p:cNvSpPr/>
          <p:nvPr/>
        </p:nvSpPr>
        <p:spPr>
          <a:xfrm>
            <a:off x="1116000" y="7477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questo esempio abbiamo un componente con due fori filettati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che deve accoppiarsi alla base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attraverso due viti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ttangolo 6"/>
          <p:cNvSpPr/>
          <p:nvPr/>
        </p:nvSpPr>
        <p:spPr>
          <a:xfrm>
            <a:off x="2039400" y="57240"/>
            <a:ext cx="57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funzional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8184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"/>
          <p:cNvPicPr/>
          <p:nvPr/>
        </p:nvPicPr>
        <p:blipFill>
          <a:blip r:embed="rId1"/>
          <a:stretch/>
        </p:blipFill>
        <p:spPr>
          <a:xfrm>
            <a:off x="2104920" y="3357720"/>
            <a:ext cx="7039080" cy="3500280"/>
          </a:xfrm>
          <a:prstGeom prst="rect">
            <a:avLst/>
          </a:prstGeom>
          <a:ln w="0">
            <a:noFill/>
          </a:ln>
        </p:spPr>
      </p:pic>
      <p:sp>
        <p:nvSpPr>
          <p:cNvPr id="709" name="Rettangolo 5"/>
          <p:cNvSpPr/>
          <p:nvPr/>
        </p:nvSpPr>
        <p:spPr>
          <a:xfrm>
            <a:off x="1044720" y="692280"/>
            <a:ext cx="77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quisiti funzional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questo assieme sono i segu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che i fori passanti del particola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sentano un agevole passaggio delle viti (=&gt; la quot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 è funzion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che l’interasse tra i fori nei due particolari sia identico (=&gt; la quot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’ è funzion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che la larghezza della scanalatura nel particola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ia uguale alla larghezza del compon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=&gt; la quot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’’ è funzion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ttangolo 6"/>
          <p:cNvSpPr/>
          <p:nvPr/>
        </p:nvSpPr>
        <p:spPr>
          <a:xfrm>
            <a:off x="2055240" y="57240"/>
            <a:ext cx="57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funzional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403280" y="3166920"/>
            <a:ext cx="7277040" cy="3286440"/>
          </a:xfrm>
          <a:prstGeom prst="rect">
            <a:avLst/>
          </a:prstGeom>
          <a:ln w="0">
            <a:noFill/>
          </a:ln>
        </p:spPr>
      </p:pic>
      <p:sp>
        <p:nvSpPr>
          <p:cNvPr id="712" name="Rettangolo 5"/>
          <p:cNvSpPr/>
          <p:nvPr/>
        </p:nvSpPr>
        <p:spPr>
          <a:xfrm>
            <a:off x="2436120" y="108000"/>
            <a:ext cx="53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ttangolo 6"/>
          <p:cNvSpPr/>
          <p:nvPr/>
        </p:nvSpPr>
        <p:spPr>
          <a:xfrm>
            <a:off x="1187280" y="76032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ideriamo il complessivo composto da: un perno filettato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; una biella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e un corpo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requisito funzionale è che la biella possa ruotare attorno al p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ideriamo per semplicità soltanto le quote assiali (analoghi ragionamenti possono ripetersi per le quote radial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1327320" y="3166920"/>
            <a:ext cx="7277040" cy="3286440"/>
          </a:xfrm>
          <a:prstGeom prst="rect">
            <a:avLst/>
          </a:prstGeom>
          <a:ln w="0">
            <a:noFill/>
          </a:ln>
        </p:spPr>
      </p:pic>
      <p:sp>
        <p:nvSpPr>
          <p:cNvPr id="715" name="Rettangolo 5"/>
          <p:cNvSpPr/>
          <p:nvPr/>
        </p:nvSpPr>
        <p:spPr>
          <a:xfrm>
            <a:off x="2503080" y="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otatura funzionale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ttangolo 6"/>
          <p:cNvSpPr/>
          <p:nvPr/>
        </p:nvSpPr>
        <p:spPr>
          <a:xfrm>
            <a:off x="1187280" y="72720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l corretto funzionamento si dovrà av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ch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oco G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A – B si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ggiore di zer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=&gt; le quote A e B sono funzional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che la profondità di filettatura D della base sia maggiore della quota C del perno, ovvero che il gioco G’’ = D – C sia maggiore di zero (=&gt; le quote D e C sono funzional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e 6"/>
          <p:cNvSpPr/>
          <p:nvPr/>
        </p:nvSpPr>
        <p:spPr>
          <a:xfrm>
            <a:off x="2695680" y="3355920"/>
            <a:ext cx="576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e 7"/>
          <p:cNvSpPr/>
          <p:nvPr/>
        </p:nvSpPr>
        <p:spPr>
          <a:xfrm>
            <a:off x="3559320" y="5300640"/>
            <a:ext cx="576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3"/>
          <p:cNvSpPr/>
          <p:nvPr/>
        </p:nvSpPr>
        <p:spPr>
          <a:xfrm>
            <a:off x="1258920" y="1268280"/>
            <a:ext cx="756108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che’ usare la quota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viene utilizzare la quotatura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acilità e rapidità di lettura delle quote scritte rispetto al rilievo diret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fficoltà di rilevare direttamente dal disegno dimensioni di linee di lunghezza ridot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ossibile alterazione delle dimensioni nelle riproduzioni e nelle c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ttangolo 5"/>
          <p:cNvSpPr/>
          <p:nvPr/>
        </p:nvSpPr>
        <p:spPr>
          <a:xfrm>
            <a:off x="2575800" y="44280"/>
            <a:ext cx="44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: perch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7684920" cy="2665440"/>
          </a:xfrm>
          <a:prstGeom prst="rect">
            <a:avLst/>
          </a:prstGeom>
          <a:ln w="0">
            <a:noFill/>
          </a:ln>
        </p:spPr>
      </p:pic>
      <p:sp>
        <p:nvSpPr>
          <p:cNvPr id="720" name="Rettangolo 5"/>
          <p:cNvSpPr/>
          <p:nvPr/>
        </p:nvSpPr>
        <p:spPr>
          <a:xfrm>
            <a:off x="1187280" y="1038240"/>
            <a:ext cx="785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ideriamo il complessivo composto da: un coperchio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e da un contenitore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. Il requisito funzionale è che la chiusura possa avvenire correttamente. Ciò si realizza garantendo il contatto tra le superfici S ed 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ttangolo 7"/>
          <p:cNvSpPr/>
          <p:nvPr/>
        </p:nvSpPr>
        <p:spPr>
          <a:xfrm>
            <a:off x="2331720" y="44280"/>
            <a:ext cx="53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e 7"/>
          <p:cNvSpPr/>
          <p:nvPr/>
        </p:nvSpPr>
        <p:spPr>
          <a:xfrm>
            <a:off x="2610000" y="4851360"/>
            <a:ext cx="907920" cy="930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1403280" y="669960"/>
            <a:ext cx="7129440" cy="2471760"/>
          </a:xfrm>
          <a:prstGeom prst="rect">
            <a:avLst/>
          </a:prstGeom>
          <a:ln w="0">
            <a:noFill/>
          </a:ln>
        </p:spPr>
      </p:pic>
      <p:sp>
        <p:nvSpPr>
          <p:cNvPr id="724" name="Rettangolo 6"/>
          <p:cNvSpPr/>
          <p:nvPr/>
        </p:nvSpPr>
        <p:spPr>
          <a:xfrm>
            <a:off x="1187280" y="3141720"/>
            <a:ext cx="78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le dei due sistemi di quotatura è corretto, tr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 e B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sserviamo che le due soluzioni sono equivalenti da un punto di vista geometrico. Notiamo, tuttavia, ch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soluzione B è preferibil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un punto di vista funzionale, in quanto permett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l’immediato confronto delle quote K e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l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unzionalità dell’assiem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ende dal gioco funziona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 = K - 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luzione 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iamo che non ha senso spezzare la quota di profondità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 +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ttangolo 7"/>
          <p:cNvSpPr/>
          <p:nvPr/>
        </p:nvSpPr>
        <p:spPr>
          <a:xfrm>
            <a:off x="2331720" y="36360"/>
            <a:ext cx="53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e 7"/>
          <p:cNvSpPr/>
          <p:nvPr/>
        </p:nvSpPr>
        <p:spPr>
          <a:xfrm>
            <a:off x="2627280" y="177336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1187280" y="2786040"/>
            <a:ext cx="7415280" cy="3687840"/>
          </a:xfrm>
          <a:prstGeom prst="rect">
            <a:avLst/>
          </a:prstGeom>
          <a:ln w="0">
            <a:noFill/>
          </a:ln>
        </p:spPr>
      </p:pic>
      <p:sp>
        <p:nvSpPr>
          <p:cNvPr id="728" name="Rettangolo 5"/>
          <p:cNvSpPr/>
          <p:nvPr/>
        </p:nvSpPr>
        <p:spPr>
          <a:xfrm>
            <a:off x="2653560" y="119160"/>
            <a:ext cx="51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ttangolo 6"/>
          <p:cNvSpPr/>
          <p:nvPr/>
        </p:nvSpPr>
        <p:spPr>
          <a:xfrm>
            <a:off x="1116000" y="973080"/>
            <a:ext cx="80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ideriamo il complessivo composto da: un puntalino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una base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e un pezzo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non rappresentato. Il puntalino deve realizzare la centratura del pezzo 3 che appoggia sul piano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6121440" cy="3044520"/>
          </a:xfrm>
          <a:prstGeom prst="rect">
            <a:avLst/>
          </a:prstGeom>
          <a:ln w="0">
            <a:noFill/>
          </a:ln>
        </p:spPr>
      </p:pic>
      <p:sp>
        <p:nvSpPr>
          <p:cNvPr id="731" name="Rettangolo 5"/>
          <p:cNvSpPr/>
          <p:nvPr/>
        </p:nvSpPr>
        <p:spPr>
          <a:xfrm>
            <a:off x="2226960" y="0"/>
            <a:ext cx="56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funzionale (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ttangolo 7"/>
          <p:cNvSpPr/>
          <p:nvPr/>
        </p:nvSpPr>
        <p:spPr>
          <a:xfrm>
            <a:off x="1258920" y="378936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le dei due sistemi di quotatura è corretto, tr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 e B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sserviamo che le due soluzioni sono equivalenti da un punto di vista geometr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iamo che i giochi funzionali so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 = H – h e g = K – k. Concludiamo che la quotatura d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ferire è 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anto consente un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mmediata verifica dei giochi funzionali attraverso il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ollo delle coppie di quo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,h e K,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2" descr=""/>
          <p:cNvPicPr/>
          <p:nvPr/>
        </p:nvPicPr>
        <p:blipFill>
          <a:blip r:embed="rId1"/>
          <a:srcRect l="0" t="0" r="0" b="45294"/>
          <a:stretch/>
        </p:blipFill>
        <p:spPr>
          <a:xfrm>
            <a:off x="1042920" y="3067200"/>
            <a:ext cx="8037720" cy="2233440"/>
          </a:xfrm>
          <a:prstGeom prst="rect">
            <a:avLst/>
          </a:prstGeom>
          <a:ln w="0">
            <a:noFill/>
          </a:ln>
        </p:spPr>
      </p:pic>
      <p:sp>
        <p:nvSpPr>
          <p:cNvPr id="734" name="Rettangolo 5"/>
          <p:cNvSpPr/>
          <p:nvPr/>
        </p:nvSpPr>
        <p:spPr>
          <a:xfrm>
            <a:off x="2084040" y="4608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otatura funzionale (V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ttangolo 6"/>
          <p:cNvSpPr/>
          <p:nvPr/>
        </p:nvSpPr>
        <p:spPr>
          <a:xfrm>
            <a:off x="1079640" y="112536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ideriamo il complessivo composto dai component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, 2 e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dizione funzionale è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he tra i pezzi 1 e 3 risulti un gioc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 compreso tra 0 e 0,3 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"/>
          <p:cNvPicPr/>
          <p:nvPr/>
        </p:nvPicPr>
        <p:blipFill>
          <a:blip r:embed="rId1"/>
          <a:srcRect l="0" t="0" r="0" b="45294"/>
          <a:stretch/>
        </p:blipFill>
        <p:spPr>
          <a:xfrm>
            <a:off x="971640" y="620640"/>
            <a:ext cx="8037360" cy="2233800"/>
          </a:xfrm>
          <a:prstGeom prst="rect">
            <a:avLst/>
          </a:prstGeom>
          <a:ln w="0">
            <a:noFill/>
          </a:ln>
        </p:spPr>
      </p:pic>
      <p:sp>
        <p:nvSpPr>
          <p:cNvPr id="737" name="Rettangolo 5"/>
          <p:cNvSpPr/>
          <p:nvPr/>
        </p:nvSpPr>
        <p:spPr>
          <a:xfrm>
            <a:off x="2539080" y="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otatura funzionale (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ttangolo 7"/>
          <p:cNvSpPr/>
          <p:nvPr/>
        </p:nvSpPr>
        <p:spPr>
          <a:xfrm>
            <a:off x="1185840" y="2852640"/>
            <a:ext cx="76341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tilizzando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quotatura A si osserva come il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ioco funzionale viene ripartito su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tte quo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ale quotatura è inadeguata, in quanto si rischia di raggiunger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alori troppo bassi nella ripartizione delle tolleranz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on aggravio dei costi di produz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controllo dimensionale è labor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ttangolo 5"/>
          <p:cNvSpPr/>
          <p:nvPr/>
        </p:nvSpPr>
        <p:spPr>
          <a:xfrm>
            <a:off x="2539080" y="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otatura funzionale (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ttangolo 7"/>
          <p:cNvSpPr/>
          <p:nvPr/>
        </p:nvSpPr>
        <p:spPr>
          <a:xfrm>
            <a:off x="1258920" y="2781360"/>
            <a:ext cx="74898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tilizzando questa quotatura si osserva come il gioco funzionale viene ripartito su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e qu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ale quotatura appare più razionale ed effic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ripartizione delle tolleranze è più facilmente realizzab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controllo dimensionale è ra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"/>
          <p:cNvPicPr/>
          <p:nvPr/>
        </p:nvPicPr>
        <p:blipFill>
          <a:blip r:embed="rId1"/>
          <a:srcRect l="0" t="54718" r="0" b="-584"/>
          <a:stretch/>
        </p:blipFill>
        <p:spPr>
          <a:xfrm>
            <a:off x="1106640" y="765000"/>
            <a:ext cx="8037360" cy="1873440"/>
          </a:xfrm>
          <a:prstGeom prst="rect">
            <a:avLst/>
          </a:prstGeom>
          <a:ln w="0">
            <a:noFill/>
          </a:ln>
        </p:spPr>
      </p:pic>
      <p:sp>
        <p:nvSpPr>
          <p:cNvPr id="742" name="Freccia a destra 8"/>
          <p:cNvSpPr/>
          <p:nvPr/>
        </p:nvSpPr>
        <p:spPr>
          <a:xfrm rot="19533600">
            <a:off x="4251240" y="2454120"/>
            <a:ext cx="1217520" cy="26064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ttangolo 8"/>
          <p:cNvSpPr/>
          <p:nvPr/>
        </p:nvSpPr>
        <p:spPr>
          <a:xfrm>
            <a:off x="1306080" y="10800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otatura tecnologica (o di fabbric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ttangolo 9"/>
          <p:cNvSpPr/>
          <p:nvPr/>
        </p:nvSpPr>
        <p:spPr>
          <a:xfrm>
            <a:off x="1258920" y="1125360"/>
            <a:ext cx="75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tecnologica ha lo scopo di mettere in evidenza l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quot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he sono strettamente legate al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ocedimento di produ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tecnologica dipende quindi dal particolar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iclo di lavorazione adottat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produrre un compo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pensata in modo che gli operatori delle macchine utensili trovino direttamente a disegno le quote necessarie per le lavorazioni,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nza doverle ricavare con calcol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ttangolo 8"/>
          <p:cNvSpPr/>
          <p:nvPr/>
        </p:nvSpPr>
        <p:spPr>
          <a:xfrm>
            <a:off x="1346040" y="0"/>
            <a:ext cx="75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vs Tecnolog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ttangolo 10"/>
          <p:cNvSpPr/>
          <p:nvPr/>
        </p:nvSpPr>
        <p:spPr>
          <a:xfrm>
            <a:off x="1403280" y="2349360"/>
            <a:ext cx="7489800" cy="31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otatura funzionale e di fabbricazione coincid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vi sono problemi per la determinazione delle quote di fabbric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utilizzano direttamente le quote funzion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CasellaDiTesto 12"/>
          <p:cNvSpPr/>
          <p:nvPr/>
        </p:nvSpPr>
        <p:spPr>
          <a:xfrm>
            <a:off x="1266840" y="1413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aso n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ttangolo 11"/>
          <p:cNvSpPr/>
          <p:nvPr/>
        </p:nvSpPr>
        <p:spPr>
          <a:xfrm>
            <a:off x="1187280" y="1413000"/>
            <a:ext cx="7561440" cy="44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otatura funzionale e di fabbricazione non coincid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ccorre ricavare le quote di fabbricazione indirettamente dalle quote funzionali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asferimento di quot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obiettivo è quello di studiare una quotatura che conservi la funzionalità del pezzo e che rappresenti una soluzione economicamente val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pratica 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ote funzional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iginarie vengo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stitui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nuov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ote con tolleranze propri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rasferimento non è sempre possibile: in alcuni casi è necessario modificare le quote funzionali o le loro tollera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ttangolo 8"/>
          <p:cNvSpPr/>
          <p:nvPr/>
        </p:nvSpPr>
        <p:spPr>
          <a:xfrm>
            <a:off x="1346040" y="0"/>
            <a:ext cx="75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otatura Funzionale vs Tecnolog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CasellaDiTesto 10"/>
          <p:cNvSpPr/>
          <p:nvPr/>
        </p:nvSpPr>
        <p:spPr>
          <a:xfrm>
            <a:off x="1122840" y="6922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aso n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ttangolo 3"/>
          <p:cNvSpPr/>
          <p:nvPr/>
        </p:nvSpPr>
        <p:spPr>
          <a:xfrm>
            <a:off x="1258920" y="1260360"/>
            <a:ext cx="75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completa di un oggetto è di solit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imitata al disegno di particola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disegno di un componente singolo), mentre, in genere, i disegni di assieme riportano solamente poche quote (ingombri complessivi) o non ne riportano affat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quotatura di un disegno si realizza indicando un insieme di quote che si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ecessario e sufficient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 completo dimensionamento dell’oggetto rappresenta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ttangolo 5"/>
          <p:cNvSpPr/>
          <p:nvPr/>
        </p:nvSpPr>
        <p:spPr>
          <a:xfrm>
            <a:off x="2005200" y="44280"/>
            <a:ext cx="62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egole base della quot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7515360" cy="3384360"/>
          </a:xfrm>
          <a:prstGeom prst="rect">
            <a:avLst/>
          </a:prstGeom>
          <a:ln w="0">
            <a:noFill/>
          </a:ln>
        </p:spPr>
      </p:pic>
      <p:sp>
        <p:nvSpPr>
          <p:cNvPr id="752" name="Rettangolo 5"/>
          <p:cNvSpPr/>
          <p:nvPr/>
        </p:nvSpPr>
        <p:spPr>
          <a:xfrm>
            <a:off x="1187280" y="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sempio di quotatura tecnologica: perno filet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ttangolo 6"/>
          <p:cNvSpPr/>
          <p:nvPr/>
        </p:nvSpPr>
        <p:spPr>
          <a:xfrm>
            <a:off x="1116000" y="170028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ediamo come esempio la quotatura tecnologica di un perno filettato in relazione al ciclo di lavor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3" descr=""/>
          <p:cNvPicPr/>
          <p:nvPr/>
        </p:nvPicPr>
        <p:blipFill>
          <a:blip r:embed="rId1"/>
          <a:srcRect l="0" t="0" r="59543" b="0"/>
          <a:stretch/>
        </p:blipFill>
        <p:spPr>
          <a:xfrm>
            <a:off x="3924360" y="1268280"/>
            <a:ext cx="4911840" cy="5207040"/>
          </a:xfrm>
          <a:prstGeom prst="rect">
            <a:avLst/>
          </a:prstGeom>
          <a:ln w="0">
            <a:noFill/>
          </a:ln>
        </p:spPr>
      </p:pic>
      <p:sp>
        <p:nvSpPr>
          <p:cNvPr id="755" name="Rettangolo 5"/>
          <p:cNvSpPr/>
          <p:nvPr/>
        </p:nvSpPr>
        <p:spPr>
          <a:xfrm>
            <a:off x="1187280" y="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sempio di quotatura tecnologica: perno filet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ttangolo 6"/>
          <p:cNvSpPr/>
          <p:nvPr/>
        </p:nvSpPr>
        <p:spPr>
          <a:xfrm>
            <a:off x="1258920" y="141300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cl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3" descr=""/>
          <p:cNvPicPr/>
          <p:nvPr/>
        </p:nvPicPr>
        <p:blipFill>
          <a:blip r:embed="rId1"/>
          <a:srcRect l="37836" t="0" r="25393" b="0"/>
          <a:stretch/>
        </p:blipFill>
        <p:spPr>
          <a:xfrm>
            <a:off x="1258920" y="1268280"/>
            <a:ext cx="4383000" cy="5113440"/>
          </a:xfrm>
          <a:prstGeom prst="rect">
            <a:avLst/>
          </a:prstGeom>
          <a:ln w="0">
            <a:noFill/>
          </a:ln>
        </p:spPr>
      </p:pic>
      <p:sp>
        <p:nvSpPr>
          <p:cNvPr id="758" name="Rettangolo 5"/>
          <p:cNvSpPr/>
          <p:nvPr/>
        </p:nvSpPr>
        <p:spPr>
          <a:xfrm>
            <a:off x="1187280" y="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sempio di quotatura tecnologica: perno filet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ttangolo 6"/>
          <p:cNvSpPr/>
          <p:nvPr/>
        </p:nvSpPr>
        <p:spPr>
          <a:xfrm>
            <a:off x="5940360" y="1413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cl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2"/>
          <a:srcRect l="73553" t="0" r="0" b="53055"/>
          <a:stretch/>
        </p:blipFill>
        <p:spPr>
          <a:xfrm>
            <a:off x="5867280" y="3429000"/>
            <a:ext cx="3122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3254400" y="1989000"/>
            <a:ext cx="5565600" cy="4446720"/>
          </a:xfrm>
          <a:prstGeom prst="rect">
            <a:avLst/>
          </a:prstGeom>
          <a:ln w="0">
            <a:noFill/>
          </a:ln>
        </p:spPr>
      </p:pic>
      <p:sp>
        <p:nvSpPr>
          <p:cNvPr id="762" name="Rettangolo 6"/>
          <p:cNvSpPr/>
          <p:nvPr/>
        </p:nvSpPr>
        <p:spPr>
          <a:xfrm>
            <a:off x="971640" y="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sempio di quotatura tecnologica: perno senz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ttangolo 7"/>
          <p:cNvSpPr/>
          <p:nvPr/>
        </p:nvSpPr>
        <p:spPr>
          <a:xfrm>
            <a:off x="1187280" y="7700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ediamo come esempio la quotatura tecnologica di un perno senza testo in relazione al ciclo di lavor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3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4016520" cy="20163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4" descr=""/>
          <p:cNvPicPr/>
          <p:nvPr/>
        </p:nvPicPr>
        <p:blipFill>
          <a:blip r:embed="rId2"/>
          <a:srcRect l="0" t="8894" r="64381" b="-436"/>
          <a:stretch/>
        </p:blipFill>
        <p:spPr>
          <a:xfrm>
            <a:off x="4643280" y="2781360"/>
            <a:ext cx="4069080" cy="3809880"/>
          </a:xfrm>
          <a:prstGeom prst="rect">
            <a:avLst/>
          </a:prstGeom>
          <a:ln w="0">
            <a:noFill/>
          </a:ln>
        </p:spPr>
      </p:pic>
      <p:sp>
        <p:nvSpPr>
          <p:cNvPr id="766" name="Rettangolo 6"/>
          <p:cNvSpPr/>
          <p:nvPr/>
        </p:nvSpPr>
        <p:spPr>
          <a:xfrm>
            <a:off x="971640" y="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sempio di quotatura tecnologica: perno senz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ttangolo 6"/>
          <p:cNvSpPr/>
          <p:nvPr/>
        </p:nvSpPr>
        <p:spPr>
          <a:xfrm>
            <a:off x="6300720" y="1197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cl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4" descr=""/>
          <p:cNvPicPr/>
          <p:nvPr/>
        </p:nvPicPr>
        <p:blipFill>
          <a:blip r:embed="rId1"/>
          <a:srcRect l="36586" t="0" r="0" b="0"/>
          <a:stretch/>
        </p:blipFill>
        <p:spPr>
          <a:xfrm>
            <a:off x="1079640" y="1844640"/>
            <a:ext cx="7873920" cy="4524480"/>
          </a:xfrm>
          <a:prstGeom prst="rect">
            <a:avLst/>
          </a:prstGeom>
          <a:ln w="0">
            <a:noFill/>
          </a:ln>
        </p:spPr>
      </p:pic>
      <p:sp>
        <p:nvSpPr>
          <p:cNvPr id="769" name="Rettangolo 6"/>
          <p:cNvSpPr/>
          <p:nvPr/>
        </p:nvSpPr>
        <p:spPr>
          <a:xfrm>
            <a:off x="971640" y="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sempio di quotatura tecnologica: perno senz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ttangolo 6"/>
          <p:cNvSpPr/>
          <p:nvPr/>
        </p:nvSpPr>
        <p:spPr>
          <a:xfrm>
            <a:off x="3924360" y="69228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cl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3313080" cy="26463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2295720" cy="11523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" descr=""/>
          <p:cNvPicPr/>
          <p:nvPr/>
        </p:nvPicPr>
        <p:blipFill>
          <a:blip r:embed="rId3"/>
          <a:stretch/>
        </p:blipFill>
        <p:spPr>
          <a:xfrm>
            <a:off x="1476360" y="3860640"/>
            <a:ext cx="7477200" cy="2724480"/>
          </a:xfrm>
          <a:prstGeom prst="rect">
            <a:avLst/>
          </a:prstGeom>
          <a:ln w="0">
            <a:noFill/>
          </a:ln>
        </p:spPr>
      </p:pic>
      <p:sp>
        <p:nvSpPr>
          <p:cNvPr id="774" name="Rettangolo 6"/>
          <p:cNvSpPr/>
          <p:nvPr/>
        </p:nvSpPr>
        <p:spPr>
          <a:xfrm>
            <a:off x="971640" y="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sempio di quotatura tecnologica: perno senz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ttangolo 7"/>
          <p:cNvSpPr/>
          <p:nvPr/>
        </p:nvSpPr>
        <p:spPr>
          <a:xfrm>
            <a:off x="1187280" y="7700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trasferimento di quota da funzionale a tecnolo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uppo 27"/>
          <p:cNvGrpSpPr/>
          <p:nvPr/>
        </p:nvGrpSpPr>
        <p:grpSpPr>
          <a:xfrm>
            <a:off x="2484360" y="3499920"/>
            <a:ext cx="3743280" cy="505440"/>
            <a:chOff x="2484360" y="3499920"/>
            <a:chExt cx="3743280" cy="505440"/>
          </a:xfrm>
        </p:grpSpPr>
        <p:sp>
          <p:nvSpPr>
            <p:cNvPr id="777" name="Ovale 8"/>
            <p:cNvSpPr/>
            <p:nvPr/>
          </p:nvSpPr>
          <p:spPr>
            <a:xfrm>
              <a:off x="2484360" y="3500280"/>
              <a:ext cx="647640" cy="505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Connettore 1 12"/>
            <p:cNvSpPr/>
            <p:nvPr/>
          </p:nvSpPr>
          <p:spPr>
            <a:xfrm flipV="1">
              <a:off x="3132000" y="3499920"/>
              <a:ext cx="3095640" cy="25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uppo 29"/>
          <p:cNvGrpSpPr/>
          <p:nvPr/>
        </p:nvGrpSpPr>
        <p:grpSpPr>
          <a:xfrm>
            <a:off x="6226920" y="3500280"/>
            <a:ext cx="2090160" cy="1729080"/>
            <a:chOff x="6226920" y="3500280"/>
            <a:chExt cx="2090160" cy="1729080"/>
          </a:xfrm>
        </p:grpSpPr>
        <p:sp>
          <p:nvSpPr>
            <p:cNvPr id="780" name="Ovale 10"/>
            <p:cNvSpPr/>
            <p:nvPr/>
          </p:nvSpPr>
          <p:spPr>
            <a:xfrm>
              <a:off x="7669440" y="4724640"/>
              <a:ext cx="647640" cy="504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Connettore 1 17"/>
            <p:cNvSpPr/>
            <p:nvPr/>
          </p:nvSpPr>
          <p:spPr>
            <a:xfrm>
              <a:off x="6226920" y="3500280"/>
              <a:ext cx="1441800" cy="1476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uppo 28"/>
          <p:cNvGrpSpPr/>
          <p:nvPr/>
        </p:nvGrpSpPr>
        <p:grpSpPr>
          <a:xfrm>
            <a:off x="1835280" y="3500280"/>
            <a:ext cx="4392360" cy="1729080"/>
            <a:chOff x="1835280" y="3500280"/>
            <a:chExt cx="4392360" cy="1729080"/>
          </a:xfrm>
        </p:grpSpPr>
        <p:sp>
          <p:nvSpPr>
            <p:cNvPr id="783" name="Ovale 9"/>
            <p:cNvSpPr/>
            <p:nvPr/>
          </p:nvSpPr>
          <p:spPr>
            <a:xfrm>
              <a:off x="1835280" y="4724640"/>
              <a:ext cx="647640" cy="504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Connettore 1 20"/>
            <p:cNvSpPr/>
            <p:nvPr/>
          </p:nvSpPr>
          <p:spPr>
            <a:xfrm flipV="1">
              <a:off x="2482920" y="3500280"/>
              <a:ext cx="3744720" cy="1476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e 30"/>
          <p:cNvSpPr/>
          <p:nvPr/>
        </p:nvSpPr>
        <p:spPr>
          <a:xfrm>
            <a:off x="6227640" y="3284640"/>
            <a:ext cx="648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2774880" cy="2160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" descr=""/>
          <p:cNvPicPr/>
          <p:nvPr/>
        </p:nvPicPr>
        <p:blipFill>
          <a:blip r:embed="rId2"/>
          <a:stretch/>
        </p:blipFill>
        <p:spPr>
          <a:xfrm>
            <a:off x="3924360" y="4005360"/>
            <a:ext cx="2413080" cy="2303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" descr=""/>
          <p:cNvPicPr/>
          <p:nvPr/>
        </p:nvPicPr>
        <p:blipFill>
          <a:blip r:embed="rId3"/>
          <a:stretch/>
        </p:blipFill>
        <p:spPr>
          <a:xfrm>
            <a:off x="6516720" y="3933720"/>
            <a:ext cx="2376360" cy="2284560"/>
          </a:xfrm>
          <a:prstGeom prst="rect">
            <a:avLst/>
          </a:prstGeom>
          <a:ln w="0">
            <a:noFill/>
          </a:ln>
        </p:spPr>
      </p:pic>
      <p:sp>
        <p:nvSpPr>
          <p:cNvPr id="789" name="Rettangolo 6"/>
          <p:cNvSpPr/>
          <p:nvPr/>
        </p:nvSpPr>
        <p:spPr>
          <a:xfrm>
            <a:off x="971640" y="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assaggio da quotatura funzionale a quotatura di fabbricazione. Trasferimento di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ttangolo 10"/>
          <p:cNvSpPr/>
          <p:nvPr/>
        </p:nvSpPr>
        <p:spPr>
          <a:xfrm>
            <a:off x="1116000" y="9810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quotatura funzionale e quella di fabbrica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ssono non coincide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pone dunque il problema del passaggio da quote funzionali a quote di fabbricazione, in particolare quando le quote sono soggette a tolleran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sserviamo i seguenti esempi dove le quote indicate debbono ritenersi soggette a toller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2574720" cy="20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226224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3" name="Picture 4" descr=""/>
          <p:cNvPicPr/>
          <p:nvPr/>
        </p:nvPicPr>
        <p:blipFill>
          <a:blip r:embed="rId3"/>
          <a:stretch/>
        </p:blipFill>
        <p:spPr>
          <a:xfrm>
            <a:off x="949320" y="4221000"/>
            <a:ext cx="247032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4" name="Rettangolo 7"/>
          <p:cNvSpPr/>
          <p:nvPr/>
        </p:nvSpPr>
        <p:spPr>
          <a:xfrm>
            <a:off x="3564000" y="0"/>
            <a:ext cx="55450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trasferimento è possibi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ltanto se la tolleranza sulla quota A è maggiore della tolleranza sulla quota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ssando dalla quotatura  funzionale a quella di fabbricazione, infatti, la tolleranza sulla quota B rimane invariata, quin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quota C non può che aumentare la tolleranza risultante sulla quota A, che non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trà essere inferiore a quella della quota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ttangolo 8"/>
          <p:cNvSpPr/>
          <p:nvPr/>
        </p:nvSpPr>
        <p:spPr>
          <a:xfrm>
            <a:off x="3276720" y="2060640"/>
            <a:ext cx="5832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trasferimento è possibi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ltanto se la tolleranza sulla quota C è maggiore della tolleranza sulla quota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ssando dalla quotatura funzionale a quella di fabbricazione, infatti, la tolleranza sulla quota B rimane invariata, quin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quota A non pu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he aumentare la tolleranza risultante sulla quota C, che non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trà essere inferiore a quella della quota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ttangolo 9"/>
          <p:cNvSpPr/>
          <p:nvPr/>
        </p:nvSpPr>
        <p:spPr>
          <a:xfrm>
            <a:off x="3419640" y="4221000"/>
            <a:ext cx="56894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trasferimento è possibi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ltanto se la tolleranza sulla quota B è maggiore della tolleranza sulla quota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ssando dalla quotatura funzionale a quella di fabbricazione, infatti, la tolleranza sulla quota A rimane invariata, quin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quota C non può che aumentare la tolleranza risultante sulla quota B, che non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trà essere inferiore a quella della quota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693960" cy="23036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3" descr=""/>
          <p:cNvPicPr/>
          <p:nvPr/>
        </p:nvPicPr>
        <p:blipFill>
          <a:blip r:embed="rId2"/>
          <a:stretch/>
        </p:blipFill>
        <p:spPr>
          <a:xfrm>
            <a:off x="4583160" y="2709720"/>
            <a:ext cx="4560840" cy="4104000"/>
          </a:xfrm>
          <a:prstGeom prst="rect">
            <a:avLst/>
          </a:prstGeom>
          <a:ln w="0">
            <a:noFill/>
          </a:ln>
        </p:spPr>
      </p:pic>
      <p:sp>
        <p:nvSpPr>
          <p:cNvPr id="799" name="Rettangolo 6"/>
          <p:cNvSpPr/>
          <p:nvPr/>
        </p:nvSpPr>
        <p:spPr>
          <a:xfrm>
            <a:off x="971640" y="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sempio di passaggio da quotatura funzionale a quotatura di fabbricazione (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ttangolo 7"/>
          <p:cNvSpPr/>
          <p:nvPr/>
        </p:nvSpPr>
        <p:spPr>
          <a:xfrm>
            <a:off x="1042920" y="105264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ideriamo il componente di seguito rappresentato con la relativa quotatura funzionale. Il pezzo viene lavorato attraverso successive operazioni di fresatura. La prima operazione definisce l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uperficie di riferiment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“a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ttangolo 5"/>
          <p:cNvSpPr/>
          <p:nvPr/>
        </p:nvSpPr>
        <p:spPr>
          <a:xfrm>
            <a:off x="1042920" y="2637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 vuole ricavare la quotatura di fabbr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ttangolo 5"/>
          <p:cNvSpPr/>
          <p:nvPr/>
        </p:nvSpPr>
        <p:spPr>
          <a:xfrm>
            <a:off x="2005200" y="44280"/>
            <a:ext cx="62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egole base della quot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Immagine 4" descr="Sdgnss-T4-2_Zeichnung_kl.gif"/>
          <p:cNvPicPr/>
          <p:nvPr/>
        </p:nvPicPr>
        <p:blipFill>
          <a:blip r:embed="rId1"/>
          <a:stretch/>
        </p:blipFill>
        <p:spPr>
          <a:xfrm>
            <a:off x="1087560" y="765000"/>
            <a:ext cx="7742160" cy="5329440"/>
          </a:xfrm>
          <a:prstGeom prst="rect">
            <a:avLst/>
          </a:prstGeom>
          <a:ln w="0">
            <a:noFill/>
          </a:ln>
        </p:spPr>
      </p:pic>
      <p:sp>
        <p:nvSpPr>
          <p:cNvPr id="570" name="Rettangolo 8"/>
          <p:cNvSpPr/>
          <p:nvPr/>
        </p:nvSpPr>
        <p:spPr>
          <a:xfrm>
            <a:off x="3132000" y="60930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egno comples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"/>
          <p:cNvPicPr/>
          <p:nvPr/>
        </p:nvPicPr>
        <p:blipFill>
          <a:blip r:embed="rId1"/>
          <a:stretch/>
        </p:blipFill>
        <p:spPr>
          <a:xfrm>
            <a:off x="1332000" y="4869000"/>
            <a:ext cx="6673680" cy="1439640"/>
          </a:xfrm>
          <a:prstGeom prst="rect">
            <a:avLst/>
          </a:prstGeom>
          <a:ln w="0">
            <a:noFill/>
          </a:ln>
        </p:spPr>
      </p:pic>
      <p:sp>
        <p:nvSpPr>
          <p:cNvPr id="803" name="Rettangolo 6"/>
          <p:cNvSpPr/>
          <p:nvPr/>
        </p:nvSpPr>
        <p:spPr>
          <a:xfrm>
            <a:off x="971640" y="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sempio di passaggio da quotatura funzionale a quotatura di fabbricazione (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ttangolo 8"/>
          <p:cNvSpPr/>
          <p:nvPr/>
        </p:nvSpPr>
        <p:spPr>
          <a:xfrm>
            <a:off x="1042920" y="1413000"/>
            <a:ext cx="43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lcolo della quota di fabbricazione A (trasferimento della quota 18m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eriamo il trasferimento della quota utilizzando le formule viste in preced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3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3708360" cy="3336840"/>
          </a:xfrm>
          <a:prstGeom prst="rect">
            <a:avLst/>
          </a:prstGeom>
          <a:ln w="0">
            <a:noFill/>
          </a:ln>
        </p:spPr>
      </p:pic>
      <p:sp>
        <p:nvSpPr>
          <p:cNvPr id="806" name="Rettangolo 10"/>
          <p:cNvSpPr/>
          <p:nvPr/>
        </p:nvSpPr>
        <p:spPr>
          <a:xfrm>
            <a:off x="1341360" y="443700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sserviamo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3"/>
          <a:srcRect l="76905" t="0" r="18709" b="70599"/>
          <a:stretch/>
        </p:blipFill>
        <p:spPr>
          <a:xfrm>
            <a:off x="6300720" y="5300640"/>
            <a:ext cx="287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3503520" cy="25210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" descr=""/>
          <p:cNvPicPr/>
          <p:nvPr/>
        </p:nvPicPr>
        <p:blipFill>
          <a:blip r:embed="rId2"/>
          <a:stretch/>
        </p:blipFill>
        <p:spPr>
          <a:xfrm>
            <a:off x="5580000" y="404640"/>
            <a:ext cx="3346560" cy="41896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5451480" cy="792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"/>
          <p:cNvPicPr/>
          <p:nvPr/>
        </p:nvPicPr>
        <p:blipFill>
          <a:blip r:embed="rId4"/>
          <a:stretch/>
        </p:blipFill>
        <p:spPr>
          <a:xfrm>
            <a:off x="1332000" y="5661000"/>
            <a:ext cx="5823000" cy="792360"/>
          </a:xfrm>
          <a:prstGeom prst="rect">
            <a:avLst/>
          </a:prstGeom>
          <a:ln w="0">
            <a:noFill/>
          </a:ln>
        </p:spPr>
      </p:pic>
      <p:sp>
        <p:nvSpPr>
          <p:cNvPr id="812" name="Rettangolo 8"/>
          <p:cNvSpPr/>
          <p:nvPr/>
        </p:nvSpPr>
        <p:spPr>
          <a:xfrm>
            <a:off x="1042920" y="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seguiamo determinando le altre quote di lavorazione B e C. Si procede in maniera analo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ttangolo 9"/>
          <p:cNvSpPr/>
          <p:nvPr/>
        </p:nvSpPr>
        <p:spPr>
          <a:xfrm>
            <a:off x="1042920" y="3716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o del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ota di fabbricazione B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trasferimento della quota 16m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ttangolo 10"/>
          <p:cNvSpPr/>
          <p:nvPr/>
        </p:nvSpPr>
        <p:spPr>
          <a:xfrm>
            <a:off x="971640" y="530064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o del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ota di fabbricazione C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trasferimento della quota 36m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295800" cy="24480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3" descr=""/>
          <p:cNvPicPr/>
          <p:nvPr/>
        </p:nvPicPr>
        <p:blipFill>
          <a:blip r:embed="rId2"/>
          <a:stretch/>
        </p:blipFill>
        <p:spPr>
          <a:xfrm>
            <a:off x="5545080" y="1355760"/>
            <a:ext cx="3564000" cy="38736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4" descr=""/>
          <p:cNvPicPr/>
          <p:nvPr/>
        </p:nvPicPr>
        <p:blipFill>
          <a:blip r:embed="rId3"/>
          <a:stretch/>
        </p:blipFill>
        <p:spPr>
          <a:xfrm>
            <a:off x="1908000" y="5516640"/>
            <a:ext cx="5532480" cy="1009440"/>
          </a:xfrm>
          <a:prstGeom prst="rect">
            <a:avLst/>
          </a:prstGeom>
          <a:ln w="0">
            <a:noFill/>
          </a:ln>
        </p:spPr>
      </p:pic>
      <p:sp>
        <p:nvSpPr>
          <p:cNvPr id="818" name="Rettangolo 7"/>
          <p:cNvSpPr/>
          <p:nvPr/>
        </p:nvSpPr>
        <p:spPr>
          <a:xfrm>
            <a:off x="900000" y="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ideriamo ora le quote di fabbricazione relative alla realizzazione, sempre per fresatura, dei tre gradini a sinistra. Si osservi che cambia la superficie di riferimento (viene presa una superficie precedentemente lavor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ttangolo 8"/>
          <p:cNvSpPr/>
          <p:nvPr/>
        </p:nvSpPr>
        <p:spPr>
          <a:xfrm>
            <a:off x="1042920" y="4068720"/>
            <a:ext cx="46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o del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ota di fabbricazione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osserva che tale quota coincide con la quota funz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ttangolo 9"/>
          <p:cNvSpPr/>
          <p:nvPr/>
        </p:nvSpPr>
        <p:spPr>
          <a:xfrm>
            <a:off x="1042920" y="518940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o del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ota di fabbricazione 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trasferimento della quota 14m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902400" cy="31687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3430800" cy="3929040"/>
          </a:xfrm>
          <a:prstGeom prst="rect">
            <a:avLst/>
          </a:prstGeom>
          <a:ln w="0">
            <a:noFill/>
          </a:ln>
        </p:spPr>
      </p:pic>
      <p:sp>
        <p:nvSpPr>
          <p:cNvPr id="823" name="Rettangolo 5"/>
          <p:cNvSpPr/>
          <p:nvPr/>
        </p:nvSpPr>
        <p:spPr>
          <a:xfrm>
            <a:off x="1187280" y="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assaggio da quotatura funzionale a quotatura di fabbr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ttangolo 6"/>
          <p:cNvSpPr/>
          <p:nvPr/>
        </p:nvSpPr>
        <p:spPr>
          <a:xfrm>
            <a:off x="1332000" y="1125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risultato è quindi la quotatura tecnologica (di fabbricazione) del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ttangolo 5"/>
          <p:cNvSpPr/>
          <p:nvPr/>
        </p:nvSpPr>
        <p:spPr>
          <a:xfrm>
            <a:off x="118728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Quotatura di collaudo e trasferimento quote dalla quotatura funzionle alla quotatura di colla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ttangolo 9"/>
          <p:cNvSpPr/>
          <p:nvPr/>
        </p:nvSpPr>
        <p:spPr>
          <a:xfrm>
            <a:off x="1332000" y="1557360"/>
            <a:ext cx="75610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quotatura di collaudo ha lo scopo di mettere in evidenza l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ot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sono strettamente legate a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cedimento di collaudo del pez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quotatura tecnologica dipende quindi dalla sequenza di controlli a cui il componente e’ soggetto nel ciclo di collau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ttangolo 5"/>
          <p:cNvSpPr/>
          <p:nvPr/>
        </p:nvSpPr>
        <p:spPr>
          <a:xfrm>
            <a:off x="118728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Quotatura di collaudo e trasferimento quote dalla quotatura funzionle alla quotatura di colla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ttangolo 6"/>
          <p:cNvSpPr/>
          <p:nvPr/>
        </p:nvSpPr>
        <p:spPr>
          <a:xfrm>
            <a:off x="1258920" y="3141720"/>
            <a:ext cx="76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quotatura di collaudo e il trasferimento  dalla quotatura funzionale, viene effettuata con gli stessi principi della quotatura  tecnologica, considerando, piuttosto che la sequenza di lavorazione, la sequenza di misure da effettuare durante il collau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ttangolo 9"/>
          <p:cNvSpPr/>
          <p:nvPr/>
        </p:nvSpPr>
        <p:spPr>
          <a:xfrm>
            <a:off x="1258920" y="907920"/>
            <a:ext cx="756108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pesso la quotatura di collaudo coincide con quella funzionale ed è pensata in modo che gli addetti al collaudo trovino direttamente a disegno le quote da riscontrare,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nza doverle ricavare con calcol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2" descr=""/>
          <p:cNvPicPr/>
          <p:nvPr/>
        </p:nvPicPr>
        <p:blipFill>
          <a:blip r:embed="rId1"/>
          <a:stretch/>
        </p:blipFill>
        <p:spPr>
          <a:xfrm>
            <a:off x="1116000" y="1538280"/>
            <a:ext cx="3529080" cy="18194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2"/>
          <a:stretch/>
        </p:blipFill>
        <p:spPr>
          <a:xfrm>
            <a:off x="5043600" y="1481040"/>
            <a:ext cx="4100400" cy="15876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3076560" cy="12765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5" descr=""/>
          <p:cNvPicPr/>
          <p:nvPr/>
        </p:nvPicPr>
        <p:blipFill>
          <a:blip r:embed="rId4"/>
          <a:stretch/>
        </p:blipFill>
        <p:spPr>
          <a:xfrm>
            <a:off x="4859280" y="3429000"/>
            <a:ext cx="3514680" cy="12859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6" descr=""/>
          <p:cNvPicPr/>
          <p:nvPr/>
        </p:nvPicPr>
        <p:blipFill>
          <a:blip r:embed="rId5"/>
          <a:stretch/>
        </p:blipFill>
        <p:spPr>
          <a:xfrm>
            <a:off x="1763640" y="4941720"/>
            <a:ext cx="6238800" cy="1656000"/>
          </a:xfrm>
          <a:prstGeom prst="rect">
            <a:avLst/>
          </a:prstGeom>
          <a:ln w="0">
            <a:noFill/>
          </a:ln>
        </p:spPr>
      </p:pic>
      <p:sp>
        <p:nvSpPr>
          <p:cNvPr id="835" name="Rettangolo 8"/>
          <p:cNvSpPr/>
          <p:nvPr/>
        </p:nvSpPr>
        <p:spPr>
          <a:xfrm>
            <a:off x="3069720" y="0"/>
            <a:ext cx="38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rrori da evi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ttangolo 9"/>
          <p:cNvSpPr/>
          <p:nvPr/>
        </p:nvSpPr>
        <p:spPr>
          <a:xfrm>
            <a:off x="1042920" y="692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riportano in questa trasparenza alcuni errori comuni di quotatura. fun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ttangolo 5"/>
          <p:cNvSpPr/>
          <p:nvPr/>
        </p:nvSpPr>
        <p:spPr>
          <a:xfrm>
            <a:off x="2005200" y="44280"/>
            <a:ext cx="62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egole base della quot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812000" cy="5521680"/>
          </a:xfrm>
          <a:prstGeom prst="rect">
            <a:avLst/>
          </a:prstGeom>
          <a:ln w="0">
            <a:noFill/>
          </a:ln>
        </p:spPr>
      </p:pic>
      <p:sp>
        <p:nvSpPr>
          <p:cNvPr id="573" name="Rettangolo 7"/>
          <p:cNvSpPr/>
          <p:nvPr/>
        </p:nvSpPr>
        <p:spPr>
          <a:xfrm>
            <a:off x="5832360" y="630864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egno di partic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ttangolo 3"/>
          <p:cNvSpPr/>
          <p:nvPr/>
        </p:nvSpPr>
        <p:spPr>
          <a:xfrm>
            <a:off x="1258920" y="1052640"/>
            <a:ext cx="76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ote ridondanti (ricavabili per somma o differenza di altre quote) possono essere indicate in modo particolare per facilitare la lettura (quote ausiliari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on devono mai mancare dimensioni non direttamente ricavabili dalle quote indicate (quotatura incomple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ttangolo 5"/>
          <p:cNvSpPr/>
          <p:nvPr/>
        </p:nvSpPr>
        <p:spPr>
          <a:xfrm>
            <a:off x="2005200" y="44280"/>
            <a:ext cx="62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egole base della quot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5:43:29Z</dcterms:created>
  <dc:creator/>
  <dc:description/>
  <dc:language>en-US</dc:language>
  <cp:lastModifiedBy/>
  <dcterms:modified xsi:type="dcterms:W3CDTF">2011-03-23T23:13:27Z</dcterms:modified>
  <cp:revision>81</cp:revision>
  <dc:subject/>
  <dc:title>Progettazione Assiomatica</dc:title>
</cp:coreProperties>
</file>